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notesSlide7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0A5C-9A15-4830-85EC-5EB479D98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FBE0-52C7-4AF6-8432-0BD84799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1E66-9703-4607-A823-2A64296E9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EB87-99AC-4273-9F6B-9404D0B6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5005-6294-4E19-9D80-8E40F6B8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62AD-C62A-41C9-ABA3-8FF93DCC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6968-4627-4903-8FD6-F376C5BC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ACD8-FA04-4D0F-9A5D-E9BCA2805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BEB6-7A5E-4AFC-9F1E-22975CCE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D880-DF44-4C70-BCD3-2C00228B8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FD4E-D7A4-4F28-8569-9F756A391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6113-A91C-4619-A592-BDE75664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C778-3ED0-4AFB-B1A4-EABE5E409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983F-12D3-4357-98C6-B14A482D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AA88-052D-4465-B128-B1F627A02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4351-BF97-4E94-9119-D24808DD7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45F3-012B-4863-AB21-4DA012BCC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F8A5-E012-4CFE-9DDE-4C90C1CD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5B86-0275-451A-8430-CC14C5B1D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E099-ED67-467C-B58E-D0CB658241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C5B7-9696-407A-8FF4-05826B0729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0AEC-3411-48E3-9B57-CE60B2794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BD16-1EEE-48DC-B22B-6F4A965D1C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A5EA-FFB3-4897-A81E-D42E1E70CC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6386-C432-4514-A359-D3E2E1009A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C1B2-BC69-4472-AE92-6CEF417236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5C6F-F9EA-4920-8EE2-A675EDC812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767E-D2EE-4213-BB4A-4FB6755904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8CF7-7756-4F1F-972C-AE69C2A1DD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1219-B763-4934-8D55-D14D928B3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9482-EBD1-450B-8CD0-AB60DA143B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10DB-E46A-407E-9DE7-F7BD7CE316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8F8F-2791-4EC6-98A1-5E56825C7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7FEE-4008-4F27-8BE0-5EE9BEC96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3AB6-9B5A-4BFD-A209-1F9F304F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BFF5-9477-486A-959F-F7C7385F00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E24A-B9A5-41B5-8DBC-2726DA58F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24A7-82E3-4983-8AF0-46AB965BD5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7D57-774E-4C40-BCCD-841F896D17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7C5C-0B0A-4586-9A3C-BA0DA9543F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1708-F2F2-495E-9F43-961328D666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D568-6084-44FD-842B-084FB15EAB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D5F2-B799-4125-B225-9DB9A78E61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714B-AB0C-4624-9C7A-29CC2D4C6B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6BD2-FB62-417C-89A6-7880C1F176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1944-E4FC-468C-8985-E400CC83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DE13-22F4-40D1-8ED5-6AC9EDDD0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5743-CFAB-4FC9-B4CC-CEAC997CF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6546-4CB9-4D22-8CDF-0C3DE870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57B4-5D95-4928-A747-23C760148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9AA3-FE41-4497-96E6-8273D43A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70E2-5C5D-4674-AD74-2C13678F1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73D8-1B4A-420A-91E9-19AB1DE4B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CB22-40A9-45CC-8F54-C7E4DAA8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8988-9BB8-4E07-B76D-95C0D349F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CBD3-6CF6-48DC-84A5-C543A7D9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E2C1-50A9-4358-8B7C-651147D27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F429-55AA-4DFC-923E-871A3758E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5938-BC7F-4E79-8A13-EE82015CD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DBD8-A0EE-4CED-9160-08745884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61E1-CDD8-49F5-A769-08645F38C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5707-0AED-4FE0-862C-129C3F2D5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C3DE-0019-4791-9ACC-6B3CDF1AC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D161-F160-4824-8185-44927888E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D2E8-7108-4724-9369-882BF3B1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D2FE-BE10-49D8-AC59-A9C299E2F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B421-742B-403D-A39E-1B43ABA8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AD2D-10A3-46F0-8019-672B0AEA5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022E-B708-4899-AF75-7AD91B85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DFFB-D6E3-4CCC-A0FA-901EFDDD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BEEB-DBBA-41A4-8603-F2E1B0CEA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526-2189-4AD0-85B2-DB4A428DD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A250-F838-4892-99D1-072919E4E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1AFE-BD3B-4AD8-9432-70BC0F2FF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BC47-EED6-4EFC-A050-6CF7602E3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AD4D-DE51-430A-954C-0853DE40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7F70-995A-4C47-ADF2-11DA36717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DC45-461A-4E8E-9CE7-1B0002534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F833-8CB0-4316-BED1-FACE2F875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B4F0-809F-468C-B3ED-5A3EF970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3B7D-13EC-4001-A882-A5E4FB78B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7BDD-37E8-499F-975F-2A925A62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F54E-C85F-49C5-A7AE-6838593D1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77724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5960"/>
            <a:ext cx="77724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596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596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1600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1600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596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596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596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37926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116000"/>
            <a:ext cx="37926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0"/>
            <a:ext cx="845820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16000"/>
            <a:ext cx="37926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4596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37926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4596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45960"/>
            <a:ext cx="77724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77724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45960"/>
            <a:ext cx="77724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4596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4596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11600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11600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4596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4596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45960"/>
            <a:ext cx="250236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37926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16000"/>
            <a:ext cx="37926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0"/>
            <a:ext cx="8458200" cy="34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16000"/>
            <a:ext cx="37926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596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37926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596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16000"/>
            <a:ext cx="37926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5960"/>
            <a:ext cx="7772400" cy="25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9637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50000">
                <a:srgbClr val="4d4d4d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-27000"/>
            <a:ext cx="8380440" cy="7621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etu.edu/people/stevearmstrong/cosc2103/lectures/CodeSamplesCh10/CodeSamplesCh10.htm" TargetMode="External"/><Relationship Id="rId3" Type="http://schemas.openxmlformats.org/officeDocument/2006/relationships/hyperlink" Target="http://www.letu.edu/people/stevearmstrong/cosc2103/lectures/CodeSamplesCh10/CodeSamplesCh10.htm" TargetMode="External"/><Relationship Id="rId4" Type="http://schemas.openxmlformats.org/officeDocument/2006/relationships/hyperlink" Target="http://www.letu.edu/people/stevearmstrong/cosc2103/lectures/CodeSamplesCh10/CodeSamplesCh10.htm" TargetMode="External"/><Relationship Id="rId5" Type="http://schemas.openxmlformats.org/officeDocument/2006/relationships/hyperlink" Target="http://www.letu.edu/people/stevearmstrong/cosc2103/lectures/CodeSamplesCh10/CodeSamplesCh10.htm" TargetMode="External"/><Relationship Id="rId6" Type="http://schemas.openxmlformats.org/officeDocument/2006/relationships/hyperlink" Target="http://www.letu.edu/people/stevearmstrong/cosc2103/lectures/CodeSamplesCh10/CodeSamplesCh10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letu.edu/people/stevearmstrong/cosc2103/lectures/CodeSamplesCh10/CodeSamplesCh10.htm#How Do They Do That Polymorphism Under the Hoo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www.letu.edu/people/stevearmstrong/cosc2103/lectures/CodeSamplesCh10/CodeSamplesCh10.htm#Interface    Function" TargetMode="External"/><Relationship Id="rId2" Type="http://schemas.openxmlformats.org/officeDocument/2006/relationships/hyperlink" Target="http://www.letu.edu/people/stevearmstrong/cosc2103/lectures/CodeSamplesCh10/CodeSamplesCh10.htm#MyFunction.java    implements Function" TargetMode="External"/><Relationship Id="rId3" Type="http://schemas.openxmlformats.org/officeDocument/2006/relationships/hyperlink" Target="http://www.letu.edu/people/stevearmstrong/cosc2103/lectures/CodeSamplesCh10/CodeSamplesCh10.htm#Function F   Subclass of MyFunction (and Function)" TargetMode="External"/><Relationship Id="rId4" Type="http://schemas.openxmlformats.org/officeDocument/2006/relationships/hyperlink" Target="http://www.letu.edu/people/stevearmstrong/cosc2103/lectures/CodeSamplesCh10/CodeSamplesCh10.htm#FunctionTestProgra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letu.edu/people/stevearmstrong/cosc2103/lectures/CodeSamplesCh10/CodeSamplesCh10.htm" TargetMode="External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w Cen MT Condensed"/>
              </a:rPr>
              <a:t>Inheritance and Polymorphism</a:t>
            </a:r>
            <a:endParaRPr b="0" lang="en-US" sz="51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  <a:ea typeface="Tw Cen MT Condensed"/>
              </a:rPr>
              <a:t>Giuseppe Attar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  <a:ea typeface="Times New Roman"/>
              </a:rPr>
              <a:t>Polymorphism Promotes Extensibility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440" y="1116000"/>
            <a:ext cx="800748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that invokes polymorphic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ys independent of the object types on which methods are invok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w object types that can respond to existing method calls can b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to a system without requiring modification to the code that uses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nly client code that instantiates new objects must know about new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quirements for Polymorphis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eritance Hierarc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keyword virtual (C++, C#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cit (Java [unless final], Python, etc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68080" y="1676520"/>
            <a:ext cx="76755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w Cen MT Condensed"/>
              </a:rPr>
              <a:t>Some Theory</a:t>
            </a:r>
            <a:endParaRPr b="0" lang="en-US" sz="6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Liskov Substitution Principle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116000"/>
            <a:ext cx="81612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-Typing/Sub-Classing defines the class relation “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sub-type of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, marked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: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rding to the substitution principl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: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n an object of type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n be substituted for an object of type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, it is legal to assign an instance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ariable of type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 a = b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Subtyping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Inheritan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class B derives from class A th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&lt;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 Inheritan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class B implements interface A th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&lt;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Demonstrating Polymorphic Behavior 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variable of one type can be assigned a value of a sub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ubclass object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uperclass objec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ype of the actua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not the type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etermines which method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heritance: Single or Multi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inheritan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class inheritance, but multiple interface inheritan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, C#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5576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oot of Hierarch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tract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What You Will Learn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1034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ly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Arial"/>
              </a:rPr>
              <a:t>morp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kov Substitution Princi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 b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bstract Classes and Metho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tract classe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root of a class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not be instantia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es fill in the "missing pieces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instanti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 every method they decl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specif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es common attributes and behaviors of the various classes in a class hierarch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ly contains one or more abstract metho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classes must override if the subclasses are to be concret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 variables and concrete methods of an abstract class subject to the normal rules of inheritanc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440" y="1341360"/>
            <a:ext cx="80010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es that are too general to create real ob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only as abstract superclasses for concrete subclasses and to declare reference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inheritance hierarchies have abstract superclasses occupying the top few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Keywor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341360"/>
            <a:ext cx="80010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for declaring a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used for declaring a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tract classes normally contain one or more abstrac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concrete subclasses must override all inherited abstrac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++ Abstract Cla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440" y="1116000"/>
            <a:ext cx="8123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keyword 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abstr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lass is abstract if it has a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ure virtual meth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class Shape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public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void virtual draw() = 0; </a:t>
            </a:r>
            <a:r>
              <a:rPr b="1" lang="en-US" sz="2800" spc="-1" strike="noStrike">
                <a:solidFill>
                  <a:srgbClr val="00b050"/>
                </a:solidFill>
                <a:latin typeface="Lucida Sans Typewriter"/>
              </a:rPr>
              <a:t>// pure virtu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1" lang="mr-IN" sz="2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Typewriter"/>
              </a:rPr>
              <a:t>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++ Interfa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keyword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bstract class can play a role of an interface si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multiple 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w Cen MT Condensed"/>
              </a:rPr>
              <a:t> </a:t>
            </a: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Abstract Classes and Methods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440" y="1341360"/>
            <a:ext cx="80010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verses all the objects in a collection, such as an ar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used in polymorphic programming to traverse a collection that contains objects from various levels of a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461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eware!  Compile Time Erro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2560" y="2897280"/>
            <a:ext cx="815184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ttempting to instantiate an object of an abstract clas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implement a superclas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 abstract methods in a subclas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less the subclass is also declared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LucidaSansTypewriter"/>
              </a:rPr>
              <a:t>abst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Flashing_sign_3"/>
          <p:cNvPicPr/>
          <p:nvPr/>
        </p:nvPicPr>
        <p:blipFill>
          <a:blip r:embed="rId1"/>
          <a:stretch/>
        </p:blipFill>
        <p:spPr>
          <a:xfrm>
            <a:off x="3656160" y="1528920"/>
            <a:ext cx="16873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Creating Abstract Superclass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per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mploye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declar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mplementation can be given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rray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s will store references to subclass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calls from these variables will call the appropriate vers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 Based on Employe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1154160" y="2863800"/>
            <a:ext cx="7007040" cy="267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</p:pic>
      <p:grpSp>
        <p:nvGrpSpPr>
          <p:cNvPr id="166" name="Group 4"/>
          <p:cNvGrpSpPr/>
          <p:nvPr/>
        </p:nvGrpSpPr>
        <p:grpSpPr>
          <a:xfrm>
            <a:off x="2052720" y="1860480"/>
            <a:ext cx="2230200" cy="1155600"/>
            <a:chOff x="2052720" y="1860480"/>
            <a:chExt cx="2230200" cy="1155600"/>
          </a:xfrm>
        </p:grpSpPr>
        <p:sp>
          <p:nvSpPr>
            <p:cNvPr id="167" name="Text Box 5"/>
            <p:cNvSpPr/>
            <p:nvPr/>
          </p:nvSpPr>
          <p:spPr>
            <a:xfrm>
              <a:off x="2052720" y="1860480"/>
              <a:ext cx="18777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bstract Clas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3465360" y="2197080"/>
              <a:ext cx="817560" cy="81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9" name="Group 7"/>
          <p:cNvGrpSpPr/>
          <p:nvPr/>
        </p:nvGrpSpPr>
        <p:grpSpPr>
          <a:xfrm>
            <a:off x="433440" y="2552760"/>
            <a:ext cx="7443720" cy="3174840"/>
            <a:chOff x="433440" y="2552760"/>
            <a:chExt cx="7443720" cy="3174840"/>
          </a:xfrm>
        </p:grpSpPr>
        <p:sp>
          <p:nvSpPr>
            <p:cNvPr id="170" name="AutoShape 8"/>
            <p:cNvSpPr/>
            <p:nvPr/>
          </p:nvSpPr>
          <p:spPr>
            <a:xfrm>
              <a:off x="1508040" y="3754440"/>
              <a:ext cx="6369120" cy="1973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433440" y="2552760"/>
              <a:ext cx="19890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Concrete Cla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>
              <a:off x="1731960" y="3240000"/>
              <a:ext cx="320760" cy="48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Rectangle 11">
            <a:hlinkClick r:id="rId2"/>
          </p:cNvPr>
          <p:cNvSpPr/>
          <p:nvPr/>
        </p:nvSpPr>
        <p:spPr>
          <a:xfrm>
            <a:off x="4170240" y="2984400"/>
            <a:ext cx="1027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2">
            <a:hlinkClick r:id="rId3"/>
          </p:cNvPr>
          <p:cNvSpPr/>
          <p:nvPr/>
        </p:nvSpPr>
        <p:spPr>
          <a:xfrm>
            <a:off x="1797120" y="3962520"/>
            <a:ext cx="1844640" cy="4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13">
            <a:hlinkClick r:id="rId4"/>
          </p:cNvPr>
          <p:cNvSpPr/>
          <p:nvPr/>
        </p:nvSpPr>
        <p:spPr>
          <a:xfrm>
            <a:off x="3720960" y="3962520"/>
            <a:ext cx="1862280" cy="4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042920" y="6127920"/>
            <a:ext cx="4957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on Classes to see source 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15">
            <a:hlinkClick r:id="rId5"/>
          </p:cNvPr>
          <p:cNvSpPr/>
          <p:nvPr/>
        </p:nvSpPr>
        <p:spPr>
          <a:xfrm>
            <a:off x="5662440" y="3946680"/>
            <a:ext cx="1876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6">
            <a:hlinkClick r:id="rId6"/>
          </p:cNvPr>
          <p:cNvSpPr/>
          <p:nvPr/>
        </p:nvSpPr>
        <p:spPr>
          <a:xfrm>
            <a:off x="3400560" y="4957920"/>
            <a:ext cx="2503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1650960"/>
            <a:ext cx="7686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 Condensed"/>
              </a:rPr>
              <a:t>Motivations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4614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Polymorphic interface for the </a:t>
            </a:r>
            <a:r>
              <a:rPr b="0" lang="en-US" sz="3600" spc="-1" strike="noStrike">
                <a:solidFill>
                  <a:srgbClr val="000000"/>
                </a:solidFill>
                <a:latin typeface="Tw Cen MT Condensed"/>
                <a:ea typeface="LucidaSansTypewriter"/>
              </a:rPr>
              <a:t>Employee</a:t>
            </a: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 hierarchy classes.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80" name="Picture 3" descr="AAEMYRX0"/>
          <p:cNvPicPr/>
          <p:nvPr/>
        </p:nvPicPr>
        <p:blipFill>
          <a:blip r:embed="rId1"/>
          <a:stretch/>
        </p:blipFill>
        <p:spPr>
          <a:xfrm>
            <a:off x="826920" y="1349280"/>
            <a:ext cx="7620120" cy="495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 in Example Hierarch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bi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 known as late b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s to overridden methods are resolved at execution time, based on the type of object referen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s whether an object is an instance of a certain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ow Do They Do That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a derived object via base class poi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e an abstract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run time the correct version of the method is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of the v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description from 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 in Example Hierarch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407600"/>
            <a:ext cx="8686800" cy="545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wnca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t a reference to a superclass to a reference to a sub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ed only if the object has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lationship with the sub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ited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s an object of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N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thod of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s the class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clas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herits from clas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&lt;: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when an object of clas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expected an object of clas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n be used inst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eritance expresses the idea of adding features to an existing type (both methods and attribut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eritance can be single or multi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oo() { return i + j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 : A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oo() { return k + super.foo()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a = new A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= new B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ole.WriteLine(a.foo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ole.WriteLine(b.foo(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vers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invoked in the second prin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layout of clas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pcast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binding happens because we convert a reference to an object of class B into a reference of its super-clas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upcas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 b = new B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 a = 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ntime should not convert the object: only use the part inherited from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different from the following implicit cast where the data is modified in the assign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i = 1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ong l 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Downcast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we have a reference of the super-class we may want to convert it bac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a = new B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b = (B)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wnca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is necessary to explicitly indicate which class is the target: a class may be the ancestor of many sub-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ain this transformation informs the compiler that the referenced object is of type B without changing the object in any 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Upcasting, downcast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shown upcasting and downcasting as expressed in languages such as C++, C# and Java; though the problem is common to OO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the upcast can be verified at compile time whereas the downcast can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asting and downcasting do not require runtime type check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Java casts are checked at run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 simply changes the interpretation of an expression at compile time without any check at run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heritance and Polymorphis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 Fac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utput of invoking b.foo() depends on the language: the second output may be the result of invok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::foo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::foo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Java the behavior would result in the invocation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::fo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::fo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ould be invok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chanism which associates the metho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::foo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.foo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te b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3480" y="117756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the example the compiler cannot determine statically the exact type of the object referenced by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ecause of upcas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allow the invocation of the method of the exact type rather than the one known at compile time it is necessary to pay an overhead at runti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ming languages allow the programmer to specify whether to apply late binding in a method invo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Java the keywor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to indicate that a method cannot be overridden in subclasses: thus the JVM may avoid late bind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C++ only methods declared a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re considered for late binding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260000"/>
            <a:ext cx="7772400" cy="527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nheritance it is possible to treat objects in a generic 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enefit is evident: it is possible to write generic operations manipulating objects of types inheriting from a common ances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P languages usually support late binding of methods: which method should be invoked is determined at run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chanism involves a small runtime overhead: at runtime the type of an object should be determined in order to invoke its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 (Java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412640"/>
            <a:ext cx="4330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void foo() {…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baz() {…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bar() {…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Suppose it</a:t>
            </a:r>
            <a:r>
              <a:rPr b="1" lang="ja-JP" sz="2000" spc="-1" strike="noStrike">
                <a:solidFill>
                  <a:srgbClr val="ff0000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 possibl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void foo() {…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bar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016600" y="1412640"/>
            <a:ext cx="3682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a = new A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b = new B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c = 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foo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A::foo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baz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A::baz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bar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A::bar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foo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B::foo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bar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B::bar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foo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A::foo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bar();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 B::bar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bstract cla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77880" y="120456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it is necessary to model a s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objects which can be partitioned into subsets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uch that their union cover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, 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use classes to model each set it is natural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&lt;: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object is an instance of a subclass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o object is an instanc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ful because it abstracts the commonalities among its subclasses, allowing to express generic properties about its obj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218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 to manipulate documents with different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documents can be partitioned by type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so 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document type we introduce a class that inherits from a clas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represents the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las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may store common properties to all documents (title, location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lass is responsible for reading the document cont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oesn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 make sense to have an instanc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ough it is useful to scan a list of documents to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bstract metho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when a class is abstract some of its methods could not be defi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the metho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d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previous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las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re is no reasonable implementation for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leave i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o that through late binding the appropriate implementation will be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63480" y="120456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can be declared using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stra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word in Java or C#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stract class Doc {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assumes a class is abstract if it contains an abstrac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impossible to instantiate an abstract class, since it will lack that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tual method is abstract in C++ if its definition is emp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string Read()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va and C# abstract methods are annotated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o body is provid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stract String Read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itance is a relation among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systems impose some restriction on inheritance relation for conven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say that class A is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f all its members are abstract; has no fields and may inherit only from one or more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itance can b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(A &lt;: 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A &lt;: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= B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-in (S = {B | A &lt;: B}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(no restri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ultiple inherit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440" y="1122480"/>
            <a:ext cx="8278920" cy="54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systems should impose restrictions on inherit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inheritance introduces both conceptual and implementation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rucial problem, in its simplest form, is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&lt;: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 &lt;: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&lt;: 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 &lt;: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esence of a common ancesto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stance part from A is shared between B and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stance part from A is dupli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ituation is not infrequent: in C++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&gt;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tr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&gt;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ostr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tr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ostr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str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lem in sharing the ancestor A is that B and C may change the inherited state in a way that may lead to confli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blem with Variety of Typ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133280"/>
            <a:ext cx="8458200" cy="57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 these types of objec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functions for drawing each objec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_circl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_triangl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raw_rectangl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raw_squar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a picture made of several such of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draw the pictur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7"/>
          <p:cNvSpPr/>
          <p:nvPr/>
        </p:nvSpPr>
        <p:spPr>
          <a:xfrm>
            <a:off x="4246560" y="5159520"/>
            <a:ext cx="1440" cy="118800"/>
          </a:xfrm>
          <a:prstGeom prst="line">
            <a:avLst/>
          </a:prstGeom>
          <a:ln w="14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2"/>
          <p:cNvSpPr/>
          <p:nvPr/>
        </p:nvSpPr>
        <p:spPr>
          <a:xfrm>
            <a:off x="1343160" y="2033640"/>
            <a:ext cx="1731960" cy="271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66"/>
          <p:cNvSpPr/>
          <p:nvPr/>
        </p:nvSpPr>
        <p:spPr>
          <a:xfrm>
            <a:off x="3182760" y="2033640"/>
            <a:ext cx="1732320" cy="271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Trian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0"/>
          <p:cNvSpPr/>
          <p:nvPr/>
        </p:nvSpPr>
        <p:spPr>
          <a:xfrm>
            <a:off x="6912000" y="2033640"/>
            <a:ext cx="1731960" cy="271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73"/>
          <p:cNvSpPr/>
          <p:nvPr/>
        </p:nvSpPr>
        <p:spPr>
          <a:xfrm>
            <a:off x="5046840" y="2033640"/>
            <a:ext cx="1733400" cy="271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ava and Mix-in inheritan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63480" y="1246320"/>
            <a:ext cx="8229600" cy="52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single and mix-in inheritance fix the common ancesto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 single inheritance can be somewhat restri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-in inheritance has become popular with Java and represents an intermediat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 are partitioned into two sets: interfaces and normal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constraints elements of the class to be only abstract methods: no instance variables are allow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inherits instance variables only from one of its ancestors avoiding the diamond problem of multiple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Implementing Single and Mix-in inheritanc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nly in combining the state of a class and its super-class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826920" y="4003560"/>
            <a:ext cx="136872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700360" y="4003560"/>
            <a:ext cx="136836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700360" y="5011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405080" y="35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60360" y="350028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&lt;: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500720" y="4003560"/>
            <a:ext cx="136836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4500720" y="5011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4717080" y="35002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&lt;:B&lt;: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300720" y="4003560"/>
            <a:ext cx="136836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6300720" y="5011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6301080" y="35002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&lt;:C&lt;:B&lt;: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6300720" y="5445000"/>
            <a:ext cx="1368360" cy="6480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17"/>
          <p:cNvSpPr/>
          <p:nvPr/>
        </p:nvSpPr>
        <p:spPr>
          <a:xfrm>
            <a:off x="3708360" y="2060640"/>
            <a:ext cx="5256360" cy="1511280"/>
          </a:xfrm>
          <a:prstGeom prst="wedgeRoundRectCallout">
            <a:avLst>
              <a:gd name="adj1" fmla="val -43055"/>
              <a:gd name="adj2" fmla="val 77416"/>
              <a:gd name="adj3" fmla="val 16667"/>
            </a:avLst>
          </a:prstGeom>
          <a:solidFill>
            <a:srgbClr val="e7e7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that Upcasting and Downcasting comes for free: the pointer at the base of the instance can be seen both as a pointer to an instance of A or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Implementing multiple inheritanc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90400" y="1628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multiple inheritance becomes more complex than reinterpreting a pointer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11280" y="3651120"/>
            <a:ext cx="1368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122560" y="3651120"/>
            <a:ext cx="1368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122560" y="4300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189080" y="3147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482200" y="314784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&lt;: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706920" y="3651120"/>
            <a:ext cx="1368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706920" y="4300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4066920" y="3147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&lt;: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292720" y="3652920"/>
            <a:ext cx="13651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6804000" y="4300560"/>
            <a:ext cx="1368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(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16"/>
          <p:cNvSpPr/>
          <p:nvPr/>
        </p:nvSpPr>
        <p:spPr>
          <a:xfrm>
            <a:off x="6804000" y="3652920"/>
            <a:ext cx="1368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(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5289480" y="430056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18"/>
          <p:cNvSpPr/>
          <p:nvPr/>
        </p:nvSpPr>
        <p:spPr>
          <a:xfrm>
            <a:off x="5289480" y="4730760"/>
            <a:ext cx="1368360" cy="4334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6802560" y="4948200"/>
            <a:ext cx="1368360" cy="4334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802560" y="5378400"/>
            <a:ext cx="1368360" cy="4334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5289480" y="5164200"/>
            <a:ext cx="136836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22"/>
          <p:cNvSpPr/>
          <p:nvPr/>
        </p:nvSpPr>
        <p:spPr>
          <a:xfrm>
            <a:off x="6802560" y="5813280"/>
            <a:ext cx="136836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5290200" y="3141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&lt;:B, D&lt;: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6817320" y="3141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&lt;:B, D&lt;: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63480" y="1177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identify which method to invok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 use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-t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ach class that has polymorphic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virtual method is assigned a slot in the table pointing to the method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the method involves looking up in the table at a specific offset to retrieve the address to use in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instance holds a pointer to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-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s late binding incurs an overhead both in time (2 indirections) and space (one pointer per objec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verhead is small and often worth the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8640" y="-57600"/>
            <a:ext cx="841536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Late binding: an example (Java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51960" y="1988640"/>
            <a:ext cx="2590920" cy="25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o(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(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ai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o(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g() {…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i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3676680" y="206064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676680" y="24192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676680" y="3429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3676680" y="378792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3676680" y="4149720"/>
            <a:ext cx="1511280" cy="35892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729960" y="164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’s v-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723480" y="3062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’s v-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12"/>
          <p:cNvSpPr/>
          <p:nvPr/>
        </p:nvSpPr>
        <p:spPr>
          <a:xfrm flipH="1" flipV="1">
            <a:off x="2523960" y="386064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13"/>
          <p:cNvSpPr/>
          <p:nvPr/>
        </p:nvSpPr>
        <p:spPr>
          <a:xfrm flipH="1" flipV="1">
            <a:off x="2379240" y="270828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14"/>
          <p:cNvSpPr/>
          <p:nvPr/>
        </p:nvSpPr>
        <p:spPr>
          <a:xfrm flipH="1" flipV="1">
            <a:off x="2739960" y="357300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15"/>
          <p:cNvSpPr/>
          <p:nvPr/>
        </p:nvSpPr>
        <p:spPr>
          <a:xfrm flipH="1">
            <a:off x="2668680" y="2276640"/>
            <a:ext cx="1008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16"/>
          <p:cNvSpPr/>
          <p:nvPr/>
        </p:nvSpPr>
        <p:spPr>
          <a:xfrm flipH="1">
            <a:off x="252396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6124680" y="2205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6124680" y="184644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V-poi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6558120" y="357192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6558120" y="3213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V-poi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6558120" y="3933720"/>
            <a:ext cx="1511280" cy="35892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22"/>
          <p:cNvSpPr/>
          <p:nvPr/>
        </p:nvSpPr>
        <p:spPr>
          <a:xfrm flipH="1">
            <a:off x="5187960" y="198900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24"/>
          <p:cNvSpPr/>
          <p:nvPr/>
        </p:nvSpPr>
        <p:spPr>
          <a:xfrm flipH="1">
            <a:off x="5187600" y="335772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792720" y="498168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 a = new A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.foo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.f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3672360" y="497520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B b = new B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b.foo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b.g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b.f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28"/>
          <p:cNvSpPr/>
          <p:nvPr/>
        </p:nvSpPr>
        <p:spPr>
          <a:xfrm>
            <a:off x="6266880" y="50338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 c =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.foo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.f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29"/>
          <p:cNvSpPr/>
          <p:nvPr/>
        </p:nvSpPr>
        <p:spPr>
          <a:xfrm>
            <a:off x="821340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30"/>
          <p:cNvSpPr/>
          <p:nvPr/>
        </p:nvSpPr>
        <p:spPr>
          <a:xfrm>
            <a:off x="8502480" y="27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31"/>
          <p:cNvSpPr/>
          <p:nvPr/>
        </p:nvSpPr>
        <p:spPr>
          <a:xfrm flipH="1" flipV="1">
            <a:off x="7635600" y="1844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32"/>
          <p:cNvSpPr/>
          <p:nvPr/>
        </p:nvSpPr>
        <p:spPr>
          <a:xfrm flipH="1">
            <a:off x="8069040" y="299736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33"/>
          <p:cNvSpPr/>
          <p:nvPr/>
        </p:nvSpPr>
        <p:spPr>
          <a:xfrm>
            <a:off x="8645400" y="3357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Line 34"/>
          <p:cNvSpPr/>
          <p:nvPr/>
        </p:nvSpPr>
        <p:spPr>
          <a:xfrm flipH="1" flipV="1">
            <a:off x="8069040" y="32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2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verriding and Overload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51960" y="1988640"/>
            <a:ext cx="2590920" cy="25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o() {…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() {…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ai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o(int i) {…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g() {…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bi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676680" y="206064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oo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3676680" y="24192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676680" y="3429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oo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676680" y="378936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3676680" y="4583160"/>
            <a:ext cx="1511280" cy="35856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3729960" y="164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’s v-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3723480" y="3062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’s v-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11"/>
          <p:cNvSpPr/>
          <p:nvPr/>
        </p:nvSpPr>
        <p:spPr>
          <a:xfrm flipH="1" flipV="1">
            <a:off x="2523960" y="386064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12"/>
          <p:cNvSpPr/>
          <p:nvPr/>
        </p:nvSpPr>
        <p:spPr>
          <a:xfrm flipH="1" flipV="1">
            <a:off x="2379240" y="270828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13"/>
          <p:cNvSpPr/>
          <p:nvPr/>
        </p:nvSpPr>
        <p:spPr>
          <a:xfrm flipH="1" flipV="1">
            <a:off x="2739960" y="357300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14"/>
          <p:cNvSpPr/>
          <p:nvPr/>
        </p:nvSpPr>
        <p:spPr>
          <a:xfrm flipH="1">
            <a:off x="2668680" y="2276640"/>
            <a:ext cx="1008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15"/>
          <p:cNvSpPr/>
          <p:nvPr/>
        </p:nvSpPr>
        <p:spPr>
          <a:xfrm flipH="1">
            <a:off x="252396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6124680" y="2205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6124680" y="184644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V-poi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6558120" y="3571920"/>
            <a:ext cx="1511280" cy="358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6558120" y="3213000"/>
            <a:ext cx="151128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V-poi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6558120" y="3933720"/>
            <a:ext cx="1511280" cy="35892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21"/>
          <p:cNvSpPr/>
          <p:nvPr/>
        </p:nvSpPr>
        <p:spPr>
          <a:xfrm flipH="1">
            <a:off x="5187960" y="1989000"/>
            <a:ext cx="93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Line 22"/>
          <p:cNvSpPr/>
          <p:nvPr/>
        </p:nvSpPr>
        <p:spPr>
          <a:xfrm flipH="1">
            <a:off x="5187600" y="335772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792720" y="498168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 a = new A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.foo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.f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3672360" y="497520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B b = new B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b.foo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b.g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b.f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6266520" y="50338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 c = b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.foo(3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.f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821340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8502480" y="27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28"/>
          <p:cNvSpPr/>
          <p:nvPr/>
        </p:nvSpPr>
        <p:spPr>
          <a:xfrm flipH="1" flipV="1">
            <a:off x="7635600" y="1844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Line 29"/>
          <p:cNvSpPr/>
          <p:nvPr/>
        </p:nvSpPr>
        <p:spPr>
          <a:xfrm flipH="1">
            <a:off x="8069040" y="299736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8645400" y="3357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31"/>
          <p:cNvSpPr/>
          <p:nvPr/>
        </p:nvSpPr>
        <p:spPr>
          <a:xfrm flipH="1" flipV="1">
            <a:off x="8069040" y="32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32"/>
          <p:cNvSpPr/>
          <p:nvPr/>
        </p:nvSpPr>
        <p:spPr>
          <a:xfrm>
            <a:off x="3676680" y="4149720"/>
            <a:ext cx="1511280" cy="35892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oo(i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2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2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2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2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4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1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9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JVM invokevirtua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440" y="1204560"/>
            <a:ext cx="83502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ll lik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.equals("test"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ranslated in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oad_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push local variable 1 (x) onto the operand st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dc "tes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push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est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to the operand st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virtual java.lang.Object.equals(Ljava.lang.Object;)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lang.Object.equals(Ljava.lang.Object;)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method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vokevirtual is executed, the JVM looks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cation and determines its # of ar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object reference it retrieves the class, searches the list of methods for one matching the method descript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 found, searches its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vokevirtual optimiz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Java compiler can arrange every subclass method table (mtable) in the same way as its superclass, ensuring that each method is located at the same off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ytecode can be modified after first execution, by replacing wit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okevirtual_quick mtable-off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when called on objects of different types, the method offset will be the s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rtual Method in Interfac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 does not work for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Incrementable { public void incr()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Counter implements Incrementable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incr()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Timer implements Incrementable {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decr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inc()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ementable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.incr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annot guarantee that method incr() is at the same off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untime type inform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63480" y="11077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cution environments may use the v-table pointer as a mean of knowing the exact type of an object at run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what happens in C++ with RTTI, in .NET CLR and JV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s the cost of having exact runtime type information is allocating the v-pointer to all ob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leaves the choice to the programmer: without RTTI no v-pointer is allocated in classes without virtual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olution: Polymorphis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33992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a class hierarch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(virtual) method 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raw(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each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ke method 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raw(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each element of the pi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raw(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Sha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bjec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5"/>
          <p:cNvSpPr/>
          <p:nvPr/>
        </p:nvSpPr>
        <p:spPr>
          <a:xfrm>
            <a:off x="4516560" y="2529000"/>
            <a:ext cx="1440" cy="120600"/>
          </a:xfrm>
          <a:prstGeom prst="line">
            <a:avLst/>
          </a:prstGeom>
          <a:ln w="14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46"/>
          <p:cNvSpPr/>
          <p:nvPr/>
        </p:nvSpPr>
        <p:spPr>
          <a:xfrm>
            <a:off x="2135160" y="2649600"/>
            <a:ext cx="1440" cy="119160"/>
          </a:xfrm>
          <a:prstGeom prst="line">
            <a:avLst/>
          </a:prstGeom>
          <a:ln w="14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47"/>
          <p:cNvSpPr/>
          <p:nvPr/>
        </p:nvSpPr>
        <p:spPr>
          <a:xfrm>
            <a:off x="4040280" y="2649600"/>
            <a:ext cx="1440" cy="119160"/>
          </a:xfrm>
          <a:prstGeom prst="line">
            <a:avLst/>
          </a:prstGeom>
          <a:ln w="14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48"/>
          <p:cNvSpPr/>
          <p:nvPr/>
        </p:nvSpPr>
        <p:spPr>
          <a:xfrm>
            <a:off x="6897600" y="2649600"/>
            <a:ext cx="1800" cy="119160"/>
          </a:xfrm>
          <a:prstGeom prst="line">
            <a:avLst/>
          </a:prstGeom>
          <a:ln w="14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1"/>
          <p:cNvSpPr/>
          <p:nvPr/>
        </p:nvSpPr>
        <p:spPr>
          <a:xfrm>
            <a:off x="2135160" y="2647800"/>
            <a:ext cx="4762440" cy="3240"/>
          </a:xfrm>
          <a:prstGeom prst="line">
            <a:avLst/>
          </a:prstGeom>
          <a:ln w="14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2"/>
          <p:cNvSpPr/>
          <p:nvPr/>
        </p:nvSpPr>
        <p:spPr>
          <a:xfrm>
            <a:off x="1268280" y="2768760"/>
            <a:ext cx="1731960" cy="271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66"/>
          <p:cNvSpPr/>
          <p:nvPr/>
        </p:nvSpPr>
        <p:spPr>
          <a:xfrm>
            <a:off x="3173400" y="2768760"/>
            <a:ext cx="1731960" cy="271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Trian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69"/>
          <p:cNvSpPr/>
          <p:nvPr/>
        </p:nvSpPr>
        <p:spPr>
          <a:xfrm>
            <a:off x="6897600" y="3040200"/>
            <a:ext cx="1800" cy="239400"/>
          </a:xfrm>
          <a:prstGeom prst="line">
            <a:avLst/>
          </a:prstGeom>
          <a:ln w="14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0"/>
          <p:cNvSpPr/>
          <p:nvPr/>
        </p:nvSpPr>
        <p:spPr>
          <a:xfrm>
            <a:off x="6032520" y="3279600"/>
            <a:ext cx="1731960" cy="271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73"/>
          <p:cNvSpPr/>
          <p:nvPr/>
        </p:nvSpPr>
        <p:spPr>
          <a:xfrm>
            <a:off x="6032520" y="2768760"/>
            <a:ext cx="1731960" cy="271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76"/>
          <p:cNvSpPr/>
          <p:nvPr/>
        </p:nvSpPr>
        <p:spPr>
          <a:xfrm>
            <a:off x="3649680" y="2259000"/>
            <a:ext cx="1733400" cy="270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uperclass And Subclass Assignment Rule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1304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ing a superclass reference to superclass variable straight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class reference to subclass variable straight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class reference to superclass variable saf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ring to subclass-only members through superclass variables a compilation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class reference to a subclass variable a compilation err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casting can get around this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 Methods and Classes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440" y="1249200"/>
            <a:ext cx="8458200" cy="560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not be overridden in a sub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thods implicitl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thods are resolved at compile time, this is known as static b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can optimize by inlining th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not be extended by a sub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methods in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lass implicitl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16257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y Use Interfa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128240"/>
            <a:ext cx="8329680" cy="541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has only single 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ild class inherits from only one parent clas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 multiple inheritance would be conveni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ive Java some of the advantages of multiple inheritance without incurring the disadvantag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y Use Interfa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capability for unrelated classes to implement a set of common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and standardize ways people and systems can inte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 specifi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perations must be permit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pecif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erform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at is an Interface?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196640"/>
            <a:ext cx="813600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nterface is a collection of constants and method declaratio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nterface describes a set of methods that can be called on an objec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ethod declarations do not include an implementa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no method bo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hat is an Interface? 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ild class t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parent class can als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plem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 interface to gain some additional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an interface is a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is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include the specified method(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ethod in an interface cannot be ma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When A Class Definition </a:t>
            </a:r>
            <a:r>
              <a:rPr b="0" i="1" lang="en-US" sz="4000" spc="-1" strike="noStrike">
                <a:solidFill>
                  <a:srgbClr val="000000"/>
                </a:solidFill>
                <a:latin typeface="Tw Cen MT Condensed"/>
              </a:rPr>
              <a:t>Implements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 An Interfac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must implement each method in the interfac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method must 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even though the interface might not say so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ants from the interface can be used as if they had been defined in the class (They should not be re-defined in the class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Declaring Constants with Interfaces 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s can be used to declare constants used in many class decla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constants are implicitl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claration allows clients to use these constants with just their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ass vs. Interface Inheritance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440" y="1257120"/>
            <a:ext cx="380988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Class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ity high in the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new subclass inherits one or more methods declared in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 uses superclass decla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47960" y="1257120"/>
            <a:ext cx="3809880" cy="52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  <a:ea typeface="Tw Cen MT Condensed"/>
              </a:rPr>
              <a:t>Interface Inheritanc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ity lower in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class specifies one or more abstrac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declared for each class in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for subclass-specific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program invokes a method through a superclass variable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ct subclass version of the method is called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the type of the object stored in the superclass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ame method name and signature can cause different actions to occur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ing on the type of object on which the method is invok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70102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6331-455E-4A08-96C2-40CC62CB6076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reating and Using Interfa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on begins with </a:t>
            </a:r>
            <a:r>
              <a:rPr b="1" lang="en-US" sz="3200" spc="-1" strike="noStrike">
                <a:solidFill>
                  <a:srgbClr val="00b050"/>
                </a:solidFill>
                <a:latin typeface="Courier New"/>
              </a:rPr>
              <a:t>interface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es </a:t>
            </a:r>
            <a:r>
              <a:rPr b="1" lang="en-US" sz="3200" spc="-1" strike="noStrike">
                <a:solidFill>
                  <a:srgbClr val="00b050"/>
                </a:solidFill>
                <a:latin typeface="Courier New"/>
              </a:rPr>
              <a:t>implement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nterface (and its method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abstra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(that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impl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interface) must implement these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reating and Using Interfa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223640"/>
            <a:ext cx="8175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the possibility of having a class which manipulates mathematical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want to se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fun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a para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that C++ allows this direct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does n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task can be accomplished with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reating and Using Interfa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e interface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Courier New"/>
                <a:hlinkClick r:id="rId1"/>
              </a:rPr>
              <a:t>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e class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Courier New"/>
                <a:hlinkClick r:id="rId2"/>
              </a:rPr>
              <a:t>MyFun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ich implements </a:t>
            </a:r>
            <a:r>
              <a:rPr b="1" lang="en-US" sz="3200" spc="-1" strike="noStrike">
                <a:solidFill>
                  <a:srgbClr val="00b050"/>
                </a:solidFill>
                <a:latin typeface="Courier New"/>
              </a:rPr>
              <a:t>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other functi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ich are subclas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of </a:t>
            </a:r>
            <a:r>
              <a:rPr b="1" lang="en-US" sz="3200" spc="-1" strike="noStrike">
                <a:solidFill>
                  <a:srgbClr val="00b050"/>
                </a:solidFill>
                <a:latin typeface="Courier New"/>
              </a:rPr>
              <a:t>My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1" lang="en-US" sz="32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test progra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ich passes </a:t>
            </a:r>
            <a:r>
              <a:rPr b="1" lang="en-US" sz="3200" spc="-1" strike="noStrike">
                <a:solidFill>
                  <a:srgbClr val="00b050"/>
                </a:solidFill>
                <a:latin typeface="Courier New"/>
              </a:rPr>
              <a:t>Function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class objects to function manipulation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ase Study: A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Payable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 Hierarchy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y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PaymentAm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implemented by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vo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AAEMYTJ0"/>
          <p:cNvPicPr/>
          <p:nvPr/>
        </p:nvPicPr>
        <p:blipFill>
          <a:blip r:embed="rId1"/>
          <a:srcRect l="16646" t="0" r="17795" b="0"/>
          <a:stretch/>
        </p:blipFill>
        <p:spPr>
          <a:xfrm>
            <a:off x="2286000" y="3511440"/>
            <a:ext cx="4338720" cy="265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359" name="Rectangle 5">
            <a:hlinkClick r:id="rId2"/>
          </p:cNvPr>
          <p:cNvSpPr/>
          <p:nvPr/>
        </p:nvSpPr>
        <p:spPr>
          <a:xfrm>
            <a:off x="2286000" y="3956040"/>
            <a:ext cx="1449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174680" y="5159520"/>
            <a:ext cx="1371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3435480" y="5119560"/>
            <a:ext cx="14364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3421080" y="5954760"/>
            <a:ext cx="1438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ource Code for </a:t>
            </a:r>
            <a:r>
              <a:rPr b="1" lang="en-US" sz="4000" spc="-1" strike="noStrike">
                <a:solidFill>
                  <a:srgbClr val="ffff99"/>
                </a:solidFill>
                <a:latin typeface="Courier New"/>
              </a:rPr>
              <a:t>Shape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 Superclass Hierarchy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pe superclass, Figure 10.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abstract method,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get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subclass, Figure 10.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, extends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Shap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override of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get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le subclass, Figure 10.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extends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override of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getAre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getN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toSt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linder subclass, Figure 10.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extends Circle, override of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getAre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getN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toSt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ource Code for </a:t>
            </a:r>
            <a:r>
              <a:rPr b="1" lang="en-US" sz="4000" spc="-1" strike="noStrike">
                <a:solidFill>
                  <a:srgbClr val="00b050"/>
                </a:solidFill>
                <a:latin typeface="Courier New"/>
              </a:rPr>
              <a:t>Shape</a:t>
            </a:r>
            <a:r>
              <a:rPr b="0" lang="en-US" sz="4000" spc="-1" strike="noStrike">
                <a:solidFill>
                  <a:srgbClr val="00b050"/>
                </a:solidFill>
                <a:latin typeface="Tw Cen MT Condense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uperclass Hierarchy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ver program to demonstrate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array of superclass refer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3554280" y="3065400"/>
            <a:ext cx="334656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lymorphic Payroll Syst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5270400"/>
            <a:ext cx="8686800" cy="10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hierarchy for polymorphic payroll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838080" y="2060640"/>
            <a:ext cx="7391520" cy="2746440"/>
            <a:chOff x="838080" y="2060640"/>
            <a:chExt cx="7391520" cy="2746440"/>
          </a:xfrm>
        </p:grpSpPr>
        <p:sp>
          <p:nvSpPr>
            <p:cNvPr id="371" name="Rectangle 6"/>
            <p:cNvSpPr/>
            <p:nvPr/>
          </p:nvSpPr>
          <p:spPr>
            <a:xfrm>
              <a:off x="838080" y="2060640"/>
              <a:ext cx="7391520" cy="27464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72" name="Group 7"/>
            <p:cNvGrpSpPr/>
            <p:nvPr/>
          </p:nvGrpSpPr>
          <p:grpSpPr>
            <a:xfrm>
              <a:off x="1207440" y="2248200"/>
              <a:ext cx="6652440" cy="2370960"/>
              <a:chOff x="1207440" y="2248200"/>
              <a:chExt cx="6652440" cy="2370960"/>
            </a:xfrm>
          </p:grpSpPr>
          <p:sp>
            <p:nvSpPr>
              <p:cNvPr id="373" name="Freeform 8"/>
              <p:cNvSpPr/>
              <p:nvPr/>
            </p:nvSpPr>
            <p:spPr>
              <a:xfrm>
                <a:off x="2933280" y="2622240"/>
                <a:ext cx="903240" cy="679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77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74" name="Group 9"/>
              <p:cNvGrpSpPr/>
              <p:nvPr/>
            </p:nvGrpSpPr>
            <p:grpSpPr>
              <a:xfrm>
                <a:off x="3629880" y="2248200"/>
                <a:ext cx="1807200" cy="374040"/>
                <a:chOff x="3629880" y="2248200"/>
                <a:chExt cx="1807200" cy="374040"/>
              </a:xfrm>
            </p:grpSpPr>
            <p:grpSp>
              <p:nvGrpSpPr>
                <p:cNvPr id="375" name="Group 10"/>
                <p:cNvGrpSpPr/>
                <p:nvPr/>
              </p:nvGrpSpPr>
              <p:grpSpPr>
                <a:xfrm>
                  <a:off x="3629880" y="2248200"/>
                  <a:ext cx="1807200" cy="374040"/>
                  <a:chOff x="3629880" y="2248200"/>
                  <a:chExt cx="1807200" cy="374040"/>
                </a:xfrm>
              </p:grpSpPr>
              <p:sp>
                <p:nvSpPr>
                  <p:cNvPr id="376" name="Freeform 11"/>
                  <p:cNvSpPr/>
                  <p:nvPr/>
                </p:nvSpPr>
                <p:spPr>
                  <a:xfrm>
                    <a:off x="3629880" y="2248200"/>
                    <a:ext cx="18072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7"/>
                        </a:lnTo>
                        <a:lnTo>
                          <a:pt x="0" y="1994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7" name="Freeform 12"/>
                  <p:cNvSpPr/>
                  <p:nvPr/>
                </p:nvSpPr>
                <p:spPr>
                  <a:xfrm>
                    <a:off x="3629880" y="2248200"/>
                    <a:ext cx="18072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7"/>
                        </a:lnTo>
                        <a:lnTo>
                          <a:pt x="0" y="1994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78" name="Rectangle 13"/>
                <p:cNvSpPr/>
                <p:nvPr/>
              </p:nvSpPr>
              <p:spPr>
                <a:xfrm>
                  <a:off x="3629880" y="2358720"/>
                  <a:ext cx="180684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Employe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9" name="Group 14"/>
              <p:cNvGrpSpPr/>
              <p:nvPr/>
            </p:nvGrpSpPr>
            <p:grpSpPr>
              <a:xfrm>
                <a:off x="1207440" y="3301200"/>
                <a:ext cx="1971720" cy="359280"/>
                <a:chOff x="1207440" y="3301200"/>
                <a:chExt cx="1971720" cy="359280"/>
              </a:xfrm>
            </p:grpSpPr>
            <p:grpSp>
              <p:nvGrpSpPr>
                <p:cNvPr id="380" name="Group 15"/>
                <p:cNvGrpSpPr/>
                <p:nvPr/>
              </p:nvGrpSpPr>
              <p:grpSpPr>
                <a:xfrm>
                  <a:off x="1207800" y="3301200"/>
                  <a:ext cx="1971000" cy="359280"/>
                  <a:chOff x="1207800" y="3301200"/>
                  <a:chExt cx="1971000" cy="359280"/>
                </a:xfrm>
              </p:grpSpPr>
              <p:sp>
                <p:nvSpPr>
                  <p:cNvPr id="381" name="Freeform 16"/>
                  <p:cNvSpPr/>
                  <p:nvPr/>
                </p:nvSpPr>
                <p:spPr>
                  <a:xfrm>
                    <a:off x="1207800" y="3301200"/>
                    <a:ext cx="19710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2" name="Freeform 17"/>
                  <p:cNvSpPr/>
                  <p:nvPr/>
                </p:nvSpPr>
                <p:spPr>
                  <a:xfrm>
                    <a:off x="1207800" y="3301200"/>
                    <a:ext cx="19710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83" name="Rectangle 18"/>
                <p:cNvSpPr/>
                <p:nvPr/>
              </p:nvSpPr>
              <p:spPr>
                <a:xfrm>
                  <a:off x="1207440" y="3409560"/>
                  <a:ext cx="197172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SalariedEmploye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4" name="Group 19"/>
              <p:cNvGrpSpPr/>
              <p:nvPr/>
            </p:nvGrpSpPr>
            <p:grpSpPr>
              <a:xfrm>
                <a:off x="5888160" y="3301200"/>
                <a:ext cx="1971720" cy="359280"/>
                <a:chOff x="5888160" y="3301200"/>
                <a:chExt cx="1971720" cy="359280"/>
              </a:xfrm>
            </p:grpSpPr>
            <p:grpSp>
              <p:nvGrpSpPr>
                <p:cNvPr id="385" name="Group 20"/>
                <p:cNvGrpSpPr/>
                <p:nvPr/>
              </p:nvGrpSpPr>
              <p:grpSpPr>
                <a:xfrm>
                  <a:off x="5889240" y="3301200"/>
                  <a:ext cx="1970640" cy="359280"/>
                  <a:chOff x="5889240" y="3301200"/>
                  <a:chExt cx="1970640" cy="359280"/>
                </a:xfrm>
              </p:grpSpPr>
              <p:sp>
                <p:nvSpPr>
                  <p:cNvPr id="386" name="Freeform 21"/>
                  <p:cNvSpPr/>
                  <p:nvPr/>
                </p:nvSpPr>
                <p:spPr>
                  <a:xfrm>
                    <a:off x="5889240" y="3301200"/>
                    <a:ext cx="197064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7" name="Freeform 22"/>
                  <p:cNvSpPr/>
                  <p:nvPr/>
                </p:nvSpPr>
                <p:spPr>
                  <a:xfrm>
                    <a:off x="5889240" y="3301200"/>
                    <a:ext cx="197064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88" name="Rectangle 23"/>
                <p:cNvSpPr/>
                <p:nvPr/>
              </p:nvSpPr>
              <p:spPr>
                <a:xfrm>
                  <a:off x="5888160" y="3409560"/>
                  <a:ext cx="197172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HourlyEmploye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89" name="Freeform 24"/>
              <p:cNvSpPr/>
              <p:nvPr/>
            </p:nvSpPr>
            <p:spPr>
              <a:xfrm>
                <a:off x="5231880" y="2622240"/>
                <a:ext cx="903240" cy="679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Freeform 25"/>
              <p:cNvSpPr/>
              <p:nvPr/>
            </p:nvSpPr>
            <p:spPr>
              <a:xfrm>
                <a:off x="4533480" y="3651120"/>
                <a:ext cx="360" cy="60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7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91" name="Group 26"/>
              <p:cNvGrpSpPr/>
              <p:nvPr/>
            </p:nvGrpSpPr>
            <p:grpSpPr>
              <a:xfrm>
                <a:off x="3547440" y="3301200"/>
                <a:ext cx="1972440" cy="359280"/>
                <a:chOff x="3547440" y="3301200"/>
                <a:chExt cx="1972440" cy="359280"/>
              </a:xfrm>
            </p:grpSpPr>
            <p:grpSp>
              <p:nvGrpSpPr>
                <p:cNvPr id="392" name="Group 27"/>
                <p:cNvGrpSpPr/>
                <p:nvPr/>
              </p:nvGrpSpPr>
              <p:grpSpPr>
                <a:xfrm>
                  <a:off x="3548160" y="3301200"/>
                  <a:ext cx="1971720" cy="359280"/>
                  <a:chOff x="3548160" y="3301200"/>
                  <a:chExt cx="1971720" cy="359280"/>
                </a:xfrm>
              </p:grpSpPr>
              <p:sp>
                <p:nvSpPr>
                  <p:cNvPr id="393" name="Freeform 28"/>
                  <p:cNvSpPr/>
                  <p:nvPr/>
                </p:nvSpPr>
                <p:spPr>
                  <a:xfrm>
                    <a:off x="3548160" y="3301200"/>
                    <a:ext cx="197172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4" name="Freeform 29"/>
                  <p:cNvSpPr/>
                  <p:nvPr/>
                </p:nvSpPr>
                <p:spPr>
                  <a:xfrm>
                    <a:off x="3548160" y="3301200"/>
                    <a:ext cx="197172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95" name="Rectangle 30"/>
                <p:cNvSpPr/>
                <p:nvPr/>
              </p:nvSpPr>
              <p:spPr>
                <a:xfrm>
                  <a:off x="3547440" y="3409560"/>
                  <a:ext cx="197208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CommissionEmploye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96" name="Freeform 31"/>
              <p:cNvSpPr/>
              <p:nvPr/>
            </p:nvSpPr>
            <p:spPr>
              <a:xfrm>
                <a:off x="4533480" y="2622240"/>
                <a:ext cx="360" cy="679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97" name="Group 32"/>
              <p:cNvGrpSpPr/>
              <p:nvPr/>
            </p:nvGrpSpPr>
            <p:grpSpPr>
              <a:xfrm>
                <a:off x="3096000" y="4259880"/>
                <a:ext cx="2875320" cy="359280"/>
                <a:chOff x="3096000" y="4259880"/>
                <a:chExt cx="2875320" cy="359280"/>
              </a:xfrm>
            </p:grpSpPr>
            <p:grpSp>
              <p:nvGrpSpPr>
                <p:cNvPr id="398" name="Group 33"/>
                <p:cNvGrpSpPr/>
                <p:nvPr/>
              </p:nvGrpSpPr>
              <p:grpSpPr>
                <a:xfrm>
                  <a:off x="3097440" y="4259880"/>
                  <a:ext cx="2873160" cy="359280"/>
                  <a:chOff x="3097440" y="4259880"/>
                  <a:chExt cx="2873160" cy="359280"/>
                </a:xfrm>
              </p:grpSpPr>
              <p:sp>
                <p:nvSpPr>
                  <p:cNvPr id="399" name="Freeform 34"/>
                  <p:cNvSpPr/>
                  <p:nvPr/>
                </p:nvSpPr>
                <p:spPr>
                  <a:xfrm>
                    <a:off x="3097440" y="4259880"/>
                    <a:ext cx="287316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3" y="0"/>
                        </a:moveTo>
                        <a:lnTo>
                          <a:pt x="19993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3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0" name="Freeform 35"/>
                  <p:cNvSpPr/>
                  <p:nvPr/>
                </p:nvSpPr>
                <p:spPr>
                  <a:xfrm>
                    <a:off x="3097440" y="4259880"/>
                    <a:ext cx="287316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3" y="0"/>
                        </a:moveTo>
                        <a:lnTo>
                          <a:pt x="19993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3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01" name="Rectangle 36"/>
                <p:cNvSpPr/>
                <p:nvPr/>
              </p:nvSpPr>
              <p:spPr>
                <a:xfrm>
                  <a:off x="3096000" y="4368600"/>
                  <a:ext cx="287532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BasePlusCommissionEmploye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lymorphic Payroll Syst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440" y="1116000"/>
            <a:ext cx="831708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tract superclass, </a:t>
            </a:r>
            <a:r>
              <a:rPr b="1" lang="en-US" sz="3200" spc="-1" strike="noStrike">
                <a:solidFill>
                  <a:srgbClr val="00b050"/>
                </a:solidFill>
                <a:latin typeface="Courier New"/>
              </a:rPr>
              <a:t>Employ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10.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abstract class specification, abstract </a:t>
            </a:r>
            <a:r>
              <a:rPr b="1" lang="en-US" sz="3200" spc="-1" strike="noStrike">
                <a:solidFill>
                  <a:srgbClr val="00b050"/>
                </a:solidFill>
                <a:latin typeface="Courier New"/>
              </a:rPr>
              <a:t>earnings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tract subclass, </a:t>
            </a:r>
            <a:r>
              <a:rPr b="1" lang="en-US" sz="3200" spc="-1" strike="noStrike">
                <a:solidFill>
                  <a:srgbClr val="00b050"/>
                </a:solidFill>
                <a:latin typeface="Courier New"/>
              </a:rPr>
              <a:t>SalariedEmploy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10.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extends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Employ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override of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earnings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at other subclasses in text, pg 461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here also the override of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earn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lymorphic Payroll Syst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test pr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array of superclass objects which are pointed at various subclass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generic calls of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toString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use of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instantceof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 use of downca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use of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getClass()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getName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s access to the nam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70102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5A11-4FBF-4290-A2B7-CE7D0576900E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CommissionEmployee {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Employee( const string &amp;, const string &amp;, const string &amp;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= 0.0, double = 0.0 )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setFirstName( const string &amp; ); // set first nam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getFirstName() const; // return first nam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setLastName( const string &amp; ); // set last nam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getLastName() const; // return last nam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setSocialSecurityNumber( const string &amp; ); // set SS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getSocialSecurityNumber() const; // return SS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setGrossSales( double ); // set gross sales amou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getGrossSales() const; // return gross sales amou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"/>
              </a:rPr>
              <a:t>Introduction </a:t>
            </a:r>
            <a:endParaRPr b="0" lang="en-US" sz="4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1116000"/>
            <a:ext cx="808524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0360" indent="-36036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ing in the genera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method invocation can take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forms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y common functionality for possibly unrelated clas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-13680"/>
            <a:ext cx="84582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oid setCommissionRate( double ); // set commission rate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ouble getCommissionRate() const; // return commission rate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ouble earnings() const; // calculate earning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ivate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ring firstName;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ring lastName;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ring socialSecurityNumber;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ouble grossSales; // gross weekly sale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ouble commissionRate; // commission percentage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lymorphic Payroll Syste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 of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roll test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results of </a:t>
            </a:r>
            <a:br>
              <a:rPr sz="3200"/>
            </a:b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getClass().getName()</a:t>
            </a: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70102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C2DD-2259-4A83-A259-F90AAAE652E7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5478480" y="1768320"/>
            <a:ext cx="3386160" cy="4751640"/>
          </a:xfrm>
          <a:prstGeom prst="rect">
            <a:avLst/>
          </a:prstGeom>
          <a:ln w="0">
            <a:noFill/>
          </a:ln>
        </p:spPr>
      </p:pic>
      <p:sp>
        <p:nvSpPr>
          <p:cNvPr id="415" name="Line 5"/>
          <p:cNvSpPr/>
          <p:nvPr/>
        </p:nvSpPr>
        <p:spPr>
          <a:xfrm>
            <a:off x="1919160" y="4443480"/>
            <a:ext cx="3927600" cy="113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reating and Using Interfa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implementation of the interface Shape, Figure 10.19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he followi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 4</a:t>
            </a:r>
            <a:br>
              <a:rPr sz="2800"/>
            </a:br>
            <a:r>
              <a:rPr b="1" lang="en-US" sz="2400" spc="-1" strike="noStrike">
                <a:solidFill>
                  <a:srgbClr val="00b050"/>
                </a:solidFill>
                <a:latin typeface="Courier New"/>
              </a:rPr>
              <a:t>public class Point extends Object </a:t>
            </a:r>
            <a:r>
              <a:rPr b="1" lang="en-US" sz="2400" spc="-1" strike="noStrike">
                <a:solidFill>
                  <a:srgbClr val="00b05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Courier New"/>
              </a:rPr>
              <a:t>    implements Shap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{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aration of additional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aration of abstract methods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getAre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getVolu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getNam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ested Cla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-level cla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declared inside a class or a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sted cla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ared inside other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static nested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onstrated in Figure 10.2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the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ntioned In The Audio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eritance Hierarch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nes of a </a:t>
            </a:r>
            <a:r>
              <a:rPr b="1" lang="en-US" sz="3600" spc="-1" strike="noStrike">
                <a:solidFill>
                  <a:srgbClr val="00b050"/>
                </a:solidFill>
                <a:latin typeface="Courier New"/>
              </a:rPr>
              <a:t>JFra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5"/>
          <p:cNvGrpSpPr/>
          <p:nvPr/>
        </p:nvGrpSpPr>
        <p:grpSpPr>
          <a:xfrm>
            <a:off x="6553080" y="1600200"/>
            <a:ext cx="1558800" cy="3411360"/>
            <a:chOff x="6553080" y="1600200"/>
            <a:chExt cx="1558800" cy="3411360"/>
          </a:xfrm>
        </p:grpSpPr>
        <p:sp>
          <p:nvSpPr>
            <p:cNvPr id="423" name="Text Box 4"/>
            <p:cNvSpPr/>
            <p:nvPr/>
          </p:nvSpPr>
          <p:spPr>
            <a:xfrm>
              <a:off x="6553080" y="1600200"/>
              <a:ext cx="155880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Verdana"/>
                  <a:ea typeface="ＭＳ Ｐゴシック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Text Box 5"/>
            <p:cNvSpPr/>
            <p:nvPr/>
          </p:nvSpPr>
          <p:spPr>
            <a:xfrm>
              <a:off x="6553080" y="2205000"/>
              <a:ext cx="155880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Verdana"/>
                  <a:ea typeface="ＭＳ Ｐゴシック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6553080" y="2814480"/>
              <a:ext cx="155880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Verdana"/>
                  <a:ea typeface="ＭＳ Ｐゴシック"/>
                </a:rPr>
                <a:t>Containe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Text Box 7"/>
            <p:cNvSpPr/>
            <p:nvPr/>
          </p:nvSpPr>
          <p:spPr>
            <a:xfrm>
              <a:off x="6553080" y="3424320"/>
              <a:ext cx="155880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Verdana"/>
                  <a:ea typeface="ＭＳ Ｐゴシック"/>
                </a:rPr>
                <a:t>Window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6553080" y="4033800"/>
              <a:ext cx="155880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Verdana"/>
                  <a:ea typeface="ＭＳ Ｐゴシック"/>
                </a:rPr>
                <a:t>Fram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6553080" y="4643280"/>
              <a:ext cx="155880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Verdana"/>
                  <a:ea typeface="ＭＳ Ｐゴシック"/>
                </a:rPr>
                <a:t>JFram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7315200" y="441432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315200" y="380484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315200" y="319536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315200" y="258552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 flipV="1">
              <a:off x="7315200" y="197604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4" name="AutoShape 16"/>
          <p:cNvSpPr/>
          <p:nvPr/>
        </p:nvSpPr>
        <p:spPr>
          <a:xfrm>
            <a:off x="5975280" y="1609560"/>
            <a:ext cx="387360" cy="3348360"/>
          </a:xfrm>
          <a:custGeom>
            <a:avLst/>
            <a:gdLst>
              <a:gd name="textAreaLeft" fmla="*/ 247680 w 387360"/>
              <a:gd name="textAreaRight" fmla="*/ 387720 w 387360"/>
              <a:gd name="textAreaTop" fmla="*/ 87120 h 3348360"/>
              <a:gd name="textAreaBottom" fmla="*/ 3261240 h 33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853"/>
                </a:lnTo>
                <a:cubicBezTo>
                  <a:pt x="10800" y="4753"/>
                  <a:pt x="5400" y="5653"/>
                  <a:pt x="0" y="5653"/>
                </a:cubicBezTo>
                <a:cubicBezTo>
                  <a:pt x="5400" y="5653"/>
                  <a:pt x="10800" y="6553"/>
                  <a:pt x="10800" y="745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Mentioned In The Audio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things required when performing ev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 the interf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 the event handl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ally implement the 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actionPerform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ested Cla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nner class is allowed to directly access its inner class's variables and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00b050"/>
                </a:solidFill>
                <a:latin typeface="Courier New"/>
              </a:rPr>
              <a:t>this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in an inner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s to current inner-class 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acces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lass using </a:t>
            </a:r>
            <a:r>
              <a:rPr b="1" lang="en-US" sz="3200" spc="-1" strike="noStrike">
                <a:solidFill>
                  <a:srgbClr val="00b050"/>
                </a:solidFill>
                <a:latin typeface="Courier New"/>
              </a:rPr>
              <a:t>th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cede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outer-class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ested Cla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nymous inner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ared inside a method of a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no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er class declared inside a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access outer class's me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to local variables of method in which decla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use of anonymous inner class, Figure 10.2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s on Nested Cla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ing class that contains nested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in separate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.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OuterClassName$InnerClassName.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 classes with names can be declared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package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1"/>
          <a:srcRect l="0" t="42524" r="0" b="0"/>
          <a:stretch/>
        </p:blipFill>
        <p:spPr>
          <a:xfrm>
            <a:off x="3051000" y="3368520"/>
            <a:ext cx="2914920" cy="1341720"/>
          </a:xfrm>
          <a:prstGeom prst="rect">
            <a:avLst/>
          </a:prstGeom>
          <a:ln w="0">
            <a:noFill/>
          </a:ln>
        </p:spPr>
      </p:pic>
      <p:sp>
        <p:nvSpPr>
          <p:cNvPr id="444" name="Oval 5"/>
          <p:cNvSpPr/>
          <p:nvPr/>
        </p:nvSpPr>
        <p:spPr>
          <a:xfrm>
            <a:off x="2793960" y="4108320"/>
            <a:ext cx="2757600" cy="55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6"/>
          <p:cNvSpPr/>
          <p:nvPr/>
        </p:nvSpPr>
        <p:spPr>
          <a:xfrm flipH="1">
            <a:off x="4609800" y="3052800"/>
            <a:ext cx="360360" cy="1030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s on Nested Class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 outer clas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th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fer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Courier New"/>
              </a:rPr>
              <a:t>OuterClassName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.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 class is responsible for creating inner class objects</a:t>
            </a:r>
            <a:br>
              <a:rPr sz="3200"/>
            </a:b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OuterClassName.InnerClassName innerRef = 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ref.new InnerClassName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sted classes can be declared 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sta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bject of outer class need not be cre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tatic nested class does not have access to outer class's non-static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morphism enables programmers to deal in generalities an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the specifics be determined at run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ers can command objects to behave in manners appropriate to those objects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out knowing the specific types of the objec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long as the objects belong to the same inheritance hierarch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Type-Wrapper Classes for Primitive Type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primitive type has 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Character, Byte, Integer, Boole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able to represent primitive as </a:t>
            </a: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O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itive values can be processed polymorphically using wrapper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ed as 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fi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methods are declared 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sta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Invoking Superclass Methods from Subclass Object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ll the point and circle hierarc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 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ment of superclass reference to superclass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ment of subclass reference to subclass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surprises … but the "is-a" relationship makes possi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ment of subclass reference to superclass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 Figure 10.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Using Superclass References with Subclass-Type Variables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we have a superclass objec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Point3 point = new Point3 (30, 40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a subclass referen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Circle4 circl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would be illegal to have the subclass reference aimed at the superclass objec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circle = poin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2320920" y="5315040"/>
            <a:ext cx="1447920" cy="1447560"/>
          </a:xfrm>
          <a:custGeom>
            <a:avLst/>
            <a:gdLst>
              <a:gd name="textAreaLeft" fmla="*/ 212040 w 1447920"/>
              <a:gd name="textAreaRight" fmla="*/ 1235880 w 144792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699" y="9117"/>
                  <a:pt x="2699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1176"/>
                </a:srgbClr>
              </a:gs>
              <a:gs pos="100000">
                <a:srgbClr val="f00000">
                  <a:alpha val="3607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Subclass Method Calls via Superclass-Type Variable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599840"/>
            <a:ext cx="8021520" cy="483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aiming a subclass reference at a superclass ob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use this to access a subclass-only method it is illeg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Figure 10.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s 22 - 2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35120" y="0"/>
            <a:ext cx="840888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 Condensed"/>
              </a:rPr>
              <a:t>Summary of Legal Assignments between Super- and Subclass Variables</a:t>
            </a:r>
            <a:endParaRPr b="0" lang="en-US" sz="2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735120" y="1177920"/>
            <a:ext cx="840888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signing superclass reference to superclass-type variable O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signing subclass reference to subclass-type variable O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signing subclass object's reference to superclass type-variable, saf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ircle "is a" poi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possible to invoke superclass metho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 NOT assign superclass reference to subclass-type vari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ou can cast the superclass reference to a subclass type (explicitly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olymorphism Exampl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 designing video g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class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Space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e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rtian, SpaceShip, LaserB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metho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r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fresh scre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r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ssage to each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message has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forms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to add class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Mercuri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pace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its own implementation of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r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er does not need to change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dr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gardless of objec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ercuri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g right in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bstract Classes and Method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tract classes not required, but reduce client code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ke a class abs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are with keyword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abstr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 one or mo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stract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urier New"/>
              </a:rPr>
              <a:t>public abstract void draw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mplementation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overrid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Inheriting Interface and Implementation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abstract superclass 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Sha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 method (must be implement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get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pr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implementation does not make se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s may be overridd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getAre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getVol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 implementations return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0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 overridden, uses superclass default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classes 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Poi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Circ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99"/>
                </a:solidFill>
                <a:latin typeface="Courier New"/>
              </a:rPr>
              <a:t>Cylin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Polymorphic Interface For The Shape Hierarchy Class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70102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452A-1D3C-4F4E-B5FB-F8050B802FBD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7" name="Group 2"/>
          <p:cNvGrpSpPr/>
          <p:nvPr/>
        </p:nvGrpSpPr>
        <p:grpSpPr>
          <a:xfrm>
            <a:off x="7053120" y="2620800"/>
            <a:ext cx="1905120" cy="3808440"/>
            <a:chOff x="7053120" y="2620800"/>
            <a:chExt cx="1905120" cy="3808440"/>
          </a:xfrm>
        </p:grpSpPr>
        <p:sp>
          <p:nvSpPr>
            <p:cNvPr id="468" name="Rectangle 3"/>
            <p:cNvSpPr/>
            <p:nvPr/>
          </p:nvSpPr>
          <p:spPr>
            <a:xfrm>
              <a:off x="7053120" y="2620800"/>
              <a:ext cx="1905120" cy="38084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69" name="Group 4"/>
            <p:cNvGrpSpPr/>
            <p:nvPr/>
          </p:nvGrpSpPr>
          <p:grpSpPr>
            <a:xfrm>
              <a:off x="7464600" y="3076920"/>
              <a:ext cx="953640" cy="2895480"/>
              <a:chOff x="7464600" y="3076920"/>
              <a:chExt cx="953640" cy="2895480"/>
            </a:xfrm>
          </p:grpSpPr>
          <p:sp>
            <p:nvSpPr>
              <p:cNvPr id="470" name="Freeform 5"/>
              <p:cNvSpPr/>
              <p:nvPr/>
            </p:nvSpPr>
            <p:spPr>
              <a:xfrm>
                <a:off x="7940160" y="3507840"/>
                <a:ext cx="1440" cy="390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39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71" name="Group 6"/>
              <p:cNvGrpSpPr/>
              <p:nvPr/>
            </p:nvGrpSpPr>
            <p:grpSpPr>
              <a:xfrm>
                <a:off x="7464600" y="4719240"/>
                <a:ext cx="953640" cy="430560"/>
                <a:chOff x="7464600" y="4719240"/>
                <a:chExt cx="953640" cy="430560"/>
              </a:xfrm>
            </p:grpSpPr>
            <p:grpSp>
              <p:nvGrpSpPr>
                <p:cNvPr id="472" name="Group 7"/>
                <p:cNvGrpSpPr/>
                <p:nvPr/>
              </p:nvGrpSpPr>
              <p:grpSpPr>
                <a:xfrm>
                  <a:off x="7465680" y="4719240"/>
                  <a:ext cx="952560" cy="430560"/>
                  <a:chOff x="7465680" y="4719240"/>
                  <a:chExt cx="952560" cy="430560"/>
                </a:xfrm>
              </p:grpSpPr>
              <p:sp>
                <p:nvSpPr>
                  <p:cNvPr id="473" name="Freeform 8"/>
                  <p:cNvSpPr/>
                  <p:nvPr/>
                </p:nvSpPr>
                <p:spPr>
                  <a:xfrm>
                    <a:off x="7465680" y="4719240"/>
                    <a:ext cx="95256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2" y="0"/>
                        </a:moveTo>
                        <a:lnTo>
                          <a:pt x="19982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2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4" name="Freeform 9"/>
                  <p:cNvSpPr/>
                  <p:nvPr/>
                </p:nvSpPr>
                <p:spPr>
                  <a:xfrm>
                    <a:off x="7465680" y="4719240"/>
                    <a:ext cx="95256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2" y="0"/>
                        </a:moveTo>
                        <a:lnTo>
                          <a:pt x="19982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2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75" name="Rectangle 10"/>
                <p:cNvSpPr/>
                <p:nvPr/>
              </p:nvSpPr>
              <p:spPr>
                <a:xfrm>
                  <a:off x="7464600" y="4847760"/>
                  <a:ext cx="953640" cy="2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Circl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6" name="Group 11"/>
              <p:cNvGrpSpPr/>
              <p:nvPr/>
            </p:nvGrpSpPr>
            <p:grpSpPr>
              <a:xfrm>
                <a:off x="7464600" y="5541480"/>
                <a:ext cx="953640" cy="430920"/>
                <a:chOff x="7464600" y="5541480"/>
                <a:chExt cx="953640" cy="430920"/>
              </a:xfrm>
            </p:grpSpPr>
            <p:grpSp>
              <p:nvGrpSpPr>
                <p:cNvPr id="477" name="Group 12"/>
                <p:cNvGrpSpPr/>
                <p:nvPr/>
              </p:nvGrpSpPr>
              <p:grpSpPr>
                <a:xfrm>
                  <a:off x="7465680" y="5541480"/>
                  <a:ext cx="952560" cy="430920"/>
                  <a:chOff x="7465680" y="5541480"/>
                  <a:chExt cx="952560" cy="430920"/>
                </a:xfrm>
              </p:grpSpPr>
              <p:sp>
                <p:nvSpPr>
                  <p:cNvPr id="478" name="Freeform 13"/>
                  <p:cNvSpPr/>
                  <p:nvPr/>
                </p:nvSpPr>
                <p:spPr>
                  <a:xfrm>
                    <a:off x="7465680" y="5541480"/>
                    <a:ext cx="952560" cy="43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2" y="0"/>
                        </a:moveTo>
                        <a:lnTo>
                          <a:pt x="19982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2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9" name="Freeform 14"/>
                  <p:cNvSpPr/>
                  <p:nvPr/>
                </p:nvSpPr>
                <p:spPr>
                  <a:xfrm>
                    <a:off x="7465680" y="5541480"/>
                    <a:ext cx="952560" cy="43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2" y="0"/>
                        </a:moveTo>
                        <a:lnTo>
                          <a:pt x="19982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2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0" name="Rectangle 15"/>
                <p:cNvSpPr/>
                <p:nvPr/>
              </p:nvSpPr>
              <p:spPr>
                <a:xfrm>
                  <a:off x="7464600" y="5670000"/>
                  <a:ext cx="953640" cy="2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Cylin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1" name="Group 16"/>
              <p:cNvGrpSpPr/>
              <p:nvPr/>
            </p:nvGrpSpPr>
            <p:grpSpPr>
              <a:xfrm>
                <a:off x="7464600" y="3898080"/>
                <a:ext cx="953640" cy="430560"/>
                <a:chOff x="7464600" y="3898080"/>
                <a:chExt cx="953640" cy="430560"/>
              </a:xfrm>
            </p:grpSpPr>
            <p:grpSp>
              <p:nvGrpSpPr>
                <p:cNvPr id="482" name="Group 17"/>
                <p:cNvGrpSpPr/>
                <p:nvPr/>
              </p:nvGrpSpPr>
              <p:grpSpPr>
                <a:xfrm>
                  <a:off x="7465680" y="3898080"/>
                  <a:ext cx="952560" cy="430560"/>
                  <a:chOff x="7465680" y="3898080"/>
                  <a:chExt cx="952560" cy="430560"/>
                </a:xfrm>
              </p:grpSpPr>
              <p:sp>
                <p:nvSpPr>
                  <p:cNvPr id="483" name="Freeform 18"/>
                  <p:cNvSpPr/>
                  <p:nvPr/>
                </p:nvSpPr>
                <p:spPr>
                  <a:xfrm>
                    <a:off x="7465680" y="3898080"/>
                    <a:ext cx="95256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2" y="0"/>
                        </a:moveTo>
                        <a:lnTo>
                          <a:pt x="19982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2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4" name="Freeform 19"/>
                  <p:cNvSpPr/>
                  <p:nvPr/>
                </p:nvSpPr>
                <p:spPr>
                  <a:xfrm>
                    <a:off x="7465680" y="3898080"/>
                    <a:ext cx="95256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2" y="0"/>
                        </a:moveTo>
                        <a:lnTo>
                          <a:pt x="19982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2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5" name="Rectangle 20"/>
                <p:cNvSpPr/>
                <p:nvPr/>
              </p:nvSpPr>
              <p:spPr>
                <a:xfrm>
                  <a:off x="7464600" y="4026960"/>
                  <a:ext cx="953640" cy="2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Point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6" name="Group 21"/>
              <p:cNvGrpSpPr/>
              <p:nvPr/>
            </p:nvGrpSpPr>
            <p:grpSpPr>
              <a:xfrm>
                <a:off x="7464600" y="3076920"/>
                <a:ext cx="953640" cy="430920"/>
                <a:chOff x="7464600" y="3076920"/>
                <a:chExt cx="953640" cy="430920"/>
              </a:xfrm>
            </p:grpSpPr>
            <p:grpSp>
              <p:nvGrpSpPr>
                <p:cNvPr id="487" name="Group 22"/>
                <p:cNvGrpSpPr/>
                <p:nvPr/>
              </p:nvGrpSpPr>
              <p:grpSpPr>
                <a:xfrm>
                  <a:off x="7465680" y="3076920"/>
                  <a:ext cx="952560" cy="430920"/>
                  <a:chOff x="7465680" y="3076920"/>
                  <a:chExt cx="952560" cy="430920"/>
                </a:xfrm>
              </p:grpSpPr>
              <p:sp>
                <p:nvSpPr>
                  <p:cNvPr id="488" name="Freeform 23"/>
                  <p:cNvSpPr/>
                  <p:nvPr/>
                </p:nvSpPr>
                <p:spPr>
                  <a:xfrm>
                    <a:off x="7465680" y="3076920"/>
                    <a:ext cx="952560" cy="43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2" y="0"/>
                        </a:moveTo>
                        <a:lnTo>
                          <a:pt x="19982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2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9" name="Freeform 24"/>
                  <p:cNvSpPr/>
                  <p:nvPr/>
                </p:nvSpPr>
                <p:spPr>
                  <a:xfrm>
                    <a:off x="7465680" y="3076920"/>
                    <a:ext cx="952560" cy="43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2" y="0"/>
                        </a:moveTo>
                        <a:lnTo>
                          <a:pt x="19982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82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90" name="Rectangle 25"/>
                <p:cNvSpPr/>
                <p:nvPr/>
              </p:nvSpPr>
              <p:spPr>
                <a:xfrm>
                  <a:off x="7464600" y="3206160"/>
                  <a:ext cx="953640" cy="2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Shap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1" name="Freeform 26"/>
              <p:cNvSpPr/>
              <p:nvPr/>
            </p:nvSpPr>
            <p:spPr>
              <a:xfrm>
                <a:off x="7940160" y="4328640"/>
                <a:ext cx="1440" cy="390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39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2" name="Freeform 27"/>
              <p:cNvSpPr/>
              <p:nvPr/>
            </p:nvSpPr>
            <p:spPr>
              <a:xfrm>
                <a:off x="7940160" y="514944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39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93" name="Group 29"/>
          <p:cNvGrpSpPr/>
          <p:nvPr/>
        </p:nvGrpSpPr>
        <p:grpSpPr>
          <a:xfrm>
            <a:off x="379440" y="1623960"/>
            <a:ext cx="6969240" cy="4630680"/>
            <a:chOff x="379440" y="1623960"/>
            <a:chExt cx="6969240" cy="4630680"/>
          </a:xfrm>
        </p:grpSpPr>
        <p:sp>
          <p:nvSpPr>
            <p:cNvPr id="494" name="Rectangle 30"/>
            <p:cNvSpPr/>
            <p:nvPr/>
          </p:nvSpPr>
          <p:spPr>
            <a:xfrm>
              <a:off x="379440" y="1623960"/>
              <a:ext cx="6969240" cy="463068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95" name="Group 31"/>
            <p:cNvGrpSpPr/>
            <p:nvPr/>
          </p:nvGrpSpPr>
          <p:grpSpPr>
            <a:xfrm>
              <a:off x="463680" y="1911240"/>
              <a:ext cx="6615000" cy="4054680"/>
              <a:chOff x="463680" y="1911240"/>
              <a:chExt cx="6615000" cy="4054680"/>
            </a:xfrm>
          </p:grpSpPr>
          <p:grpSp>
            <p:nvGrpSpPr>
              <p:cNvPr id="496" name="Group 32"/>
              <p:cNvGrpSpPr/>
              <p:nvPr/>
            </p:nvGrpSpPr>
            <p:grpSpPr>
              <a:xfrm>
                <a:off x="1501920" y="2239920"/>
                <a:ext cx="1393560" cy="932040"/>
                <a:chOff x="1501920" y="2239920"/>
                <a:chExt cx="1393560" cy="932040"/>
              </a:xfrm>
            </p:grpSpPr>
            <p:grpSp>
              <p:nvGrpSpPr>
                <p:cNvPr id="497" name="Group 33"/>
                <p:cNvGrpSpPr/>
                <p:nvPr/>
              </p:nvGrpSpPr>
              <p:grpSpPr>
                <a:xfrm>
                  <a:off x="1501920" y="2239920"/>
                  <a:ext cx="1393560" cy="932040"/>
                  <a:chOff x="1501920" y="2239920"/>
                  <a:chExt cx="1393560" cy="932040"/>
                </a:xfrm>
              </p:grpSpPr>
              <p:sp>
                <p:nvSpPr>
                  <p:cNvPr id="498" name="Freeform 34"/>
                  <p:cNvSpPr/>
                  <p:nvPr/>
                </p:nvSpPr>
                <p:spPr>
                  <a:xfrm>
                    <a:off x="1501920" y="2239920"/>
                    <a:ext cx="139356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9" name="Freeform 35"/>
                  <p:cNvSpPr/>
                  <p:nvPr/>
                </p:nvSpPr>
                <p:spPr>
                  <a:xfrm>
                    <a:off x="1501920" y="2239920"/>
                    <a:ext cx="139356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00" name="Rectangle 36"/>
                <p:cNvSpPr/>
                <p:nvPr/>
              </p:nvSpPr>
              <p:spPr>
                <a:xfrm>
                  <a:off x="1577880" y="2349360"/>
                  <a:ext cx="1239840" cy="76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1" name="Group 37"/>
              <p:cNvGrpSpPr/>
              <p:nvPr/>
            </p:nvGrpSpPr>
            <p:grpSpPr>
              <a:xfrm>
                <a:off x="2895480" y="2239920"/>
                <a:ext cx="1395360" cy="932040"/>
                <a:chOff x="2895480" y="2239920"/>
                <a:chExt cx="1395360" cy="932040"/>
              </a:xfrm>
            </p:grpSpPr>
            <p:grpSp>
              <p:nvGrpSpPr>
                <p:cNvPr id="502" name="Group 38"/>
                <p:cNvGrpSpPr/>
                <p:nvPr/>
              </p:nvGrpSpPr>
              <p:grpSpPr>
                <a:xfrm>
                  <a:off x="2895480" y="2239920"/>
                  <a:ext cx="1395360" cy="932040"/>
                  <a:chOff x="2895480" y="2239920"/>
                  <a:chExt cx="1395360" cy="932040"/>
                </a:xfrm>
              </p:grpSpPr>
              <p:sp>
                <p:nvSpPr>
                  <p:cNvPr id="503" name="Freeform 39"/>
                  <p:cNvSpPr/>
                  <p:nvPr/>
                </p:nvSpPr>
                <p:spPr>
                  <a:xfrm>
                    <a:off x="2895480" y="2239920"/>
                    <a:ext cx="139536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4" name="Freeform 40"/>
                  <p:cNvSpPr/>
                  <p:nvPr/>
                </p:nvSpPr>
                <p:spPr>
                  <a:xfrm>
                    <a:off x="2895480" y="2239920"/>
                    <a:ext cx="139536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05" name="Rectangle 41"/>
                <p:cNvSpPr/>
                <p:nvPr/>
              </p:nvSpPr>
              <p:spPr>
                <a:xfrm>
                  <a:off x="2971440" y="2349360"/>
                  <a:ext cx="1241640" cy="76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6" name="Group 42"/>
              <p:cNvGrpSpPr/>
              <p:nvPr/>
            </p:nvGrpSpPr>
            <p:grpSpPr>
              <a:xfrm>
                <a:off x="4290840" y="2239920"/>
                <a:ext cx="1393920" cy="932040"/>
                <a:chOff x="4290840" y="2239920"/>
                <a:chExt cx="1393920" cy="932040"/>
              </a:xfrm>
            </p:grpSpPr>
            <p:grpSp>
              <p:nvGrpSpPr>
                <p:cNvPr id="507" name="Group 43"/>
                <p:cNvGrpSpPr/>
                <p:nvPr/>
              </p:nvGrpSpPr>
              <p:grpSpPr>
                <a:xfrm>
                  <a:off x="4290840" y="2239920"/>
                  <a:ext cx="1393920" cy="932040"/>
                  <a:chOff x="4290840" y="2239920"/>
                  <a:chExt cx="1393920" cy="932040"/>
                </a:xfrm>
              </p:grpSpPr>
              <p:sp>
                <p:nvSpPr>
                  <p:cNvPr id="508" name="Freeform 44"/>
                  <p:cNvSpPr/>
                  <p:nvPr/>
                </p:nvSpPr>
                <p:spPr>
                  <a:xfrm>
                    <a:off x="4290840" y="2239920"/>
                    <a:ext cx="139392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9" name="Freeform 45"/>
                  <p:cNvSpPr/>
                  <p:nvPr/>
                </p:nvSpPr>
                <p:spPr>
                  <a:xfrm>
                    <a:off x="4290840" y="2239920"/>
                    <a:ext cx="139392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10" name="Rectangle 46"/>
                <p:cNvSpPr/>
                <p:nvPr/>
              </p:nvSpPr>
              <p:spPr>
                <a:xfrm>
                  <a:off x="4366800" y="2349360"/>
                  <a:ext cx="1240200" cy="76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abstract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11" name="Group 47"/>
              <p:cNvGrpSpPr/>
              <p:nvPr/>
            </p:nvGrpSpPr>
            <p:grpSpPr>
              <a:xfrm>
                <a:off x="5684760" y="2239920"/>
                <a:ext cx="1393920" cy="932040"/>
                <a:chOff x="5684760" y="2239920"/>
                <a:chExt cx="1393920" cy="932040"/>
              </a:xfrm>
            </p:grpSpPr>
            <p:grpSp>
              <p:nvGrpSpPr>
                <p:cNvPr id="512" name="Group 48"/>
                <p:cNvGrpSpPr/>
                <p:nvPr/>
              </p:nvGrpSpPr>
              <p:grpSpPr>
                <a:xfrm>
                  <a:off x="5684760" y="2239920"/>
                  <a:ext cx="1393920" cy="932040"/>
                  <a:chOff x="5684760" y="2239920"/>
                  <a:chExt cx="1393920" cy="932040"/>
                </a:xfrm>
              </p:grpSpPr>
              <p:sp>
                <p:nvSpPr>
                  <p:cNvPr id="513" name="Freeform 49"/>
                  <p:cNvSpPr/>
                  <p:nvPr/>
                </p:nvSpPr>
                <p:spPr>
                  <a:xfrm>
                    <a:off x="5684760" y="2239920"/>
                    <a:ext cx="139392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4" name="Freeform 50"/>
                  <p:cNvSpPr/>
                  <p:nvPr/>
                </p:nvSpPr>
                <p:spPr>
                  <a:xfrm>
                    <a:off x="5684760" y="2239920"/>
                    <a:ext cx="139392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15" name="Rectangle 51"/>
                <p:cNvSpPr/>
                <p:nvPr/>
              </p:nvSpPr>
              <p:spPr>
                <a:xfrm>
                  <a:off x="5760720" y="2349360"/>
                  <a:ext cx="1240200" cy="76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default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Courier New"/>
                      <a:ea typeface="ＭＳ Ｐゴシック"/>
                    </a:rPr>
                    <a:t>Object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 imple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16" name="Group 52"/>
              <p:cNvGrpSpPr/>
              <p:nvPr/>
            </p:nvGrpSpPr>
            <p:grpSpPr>
              <a:xfrm>
                <a:off x="1501920" y="3171960"/>
                <a:ext cx="1393560" cy="931680"/>
                <a:chOff x="1501920" y="3171960"/>
                <a:chExt cx="1393560" cy="931680"/>
              </a:xfrm>
            </p:grpSpPr>
            <p:grpSp>
              <p:nvGrpSpPr>
                <p:cNvPr id="517" name="Group 53"/>
                <p:cNvGrpSpPr/>
                <p:nvPr/>
              </p:nvGrpSpPr>
              <p:grpSpPr>
                <a:xfrm>
                  <a:off x="1501920" y="3171960"/>
                  <a:ext cx="1393560" cy="931680"/>
                  <a:chOff x="1501920" y="3171960"/>
                  <a:chExt cx="1393560" cy="931680"/>
                </a:xfrm>
              </p:grpSpPr>
              <p:sp>
                <p:nvSpPr>
                  <p:cNvPr id="518" name="Freeform 54"/>
                  <p:cNvSpPr/>
                  <p:nvPr/>
                </p:nvSpPr>
                <p:spPr>
                  <a:xfrm>
                    <a:off x="1501920" y="3171960"/>
                    <a:ext cx="139356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9" name="Freeform 55"/>
                  <p:cNvSpPr/>
                  <p:nvPr/>
                </p:nvSpPr>
                <p:spPr>
                  <a:xfrm>
                    <a:off x="1501920" y="3171960"/>
                    <a:ext cx="139356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20" name="Rectangle 56"/>
                <p:cNvSpPr/>
                <p:nvPr/>
              </p:nvSpPr>
              <p:spPr>
                <a:xfrm>
                  <a:off x="1577880" y="3281400"/>
                  <a:ext cx="123984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21" name="Group 57"/>
              <p:cNvGrpSpPr/>
              <p:nvPr/>
            </p:nvGrpSpPr>
            <p:grpSpPr>
              <a:xfrm>
                <a:off x="2895480" y="3171960"/>
                <a:ext cx="1395360" cy="931680"/>
                <a:chOff x="2895480" y="3171960"/>
                <a:chExt cx="1395360" cy="931680"/>
              </a:xfrm>
            </p:grpSpPr>
            <p:grpSp>
              <p:nvGrpSpPr>
                <p:cNvPr id="522" name="Group 58"/>
                <p:cNvGrpSpPr/>
                <p:nvPr/>
              </p:nvGrpSpPr>
              <p:grpSpPr>
                <a:xfrm>
                  <a:off x="2895480" y="3171960"/>
                  <a:ext cx="1395360" cy="931680"/>
                  <a:chOff x="2895480" y="3171960"/>
                  <a:chExt cx="1395360" cy="931680"/>
                </a:xfrm>
              </p:grpSpPr>
              <p:sp>
                <p:nvSpPr>
                  <p:cNvPr id="523" name="Freeform 59"/>
                  <p:cNvSpPr/>
                  <p:nvPr/>
                </p:nvSpPr>
                <p:spPr>
                  <a:xfrm>
                    <a:off x="2895480" y="3171960"/>
                    <a:ext cx="139536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4" name="Freeform 60"/>
                  <p:cNvSpPr/>
                  <p:nvPr/>
                </p:nvSpPr>
                <p:spPr>
                  <a:xfrm>
                    <a:off x="2895480" y="3171960"/>
                    <a:ext cx="139536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25" name="Rectangle 61"/>
                <p:cNvSpPr/>
                <p:nvPr/>
              </p:nvSpPr>
              <p:spPr>
                <a:xfrm>
                  <a:off x="2971440" y="3281400"/>
                  <a:ext cx="124164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26" name="Group 62"/>
              <p:cNvGrpSpPr/>
              <p:nvPr/>
            </p:nvGrpSpPr>
            <p:grpSpPr>
              <a:xfrm>
                <a:off x="4290840" y="3171960"/>
                <a:ext cx="1393920" cy="931680"/>
                <a:chOff x="4290840" y="3171960"/>
                <a:chExt cx="1393920" cy="931680"/>
              </a:xfrm>
            </p:grpSpPr>
            <p:grpSp>
              <p:nvGrpSpPr>
                <p:cNvPr id="527" name="Group 63"/>
                <p:cNvGrpSpPr/>
                <p:nvPr/>
              </p:nvGrpSpPr>
              <p:grpSpPr>
                <a:xfrm>
                  <a:off x="4290840" y="3171960"/>
                  <a:ext cx="1393920" cy="931680"/>
                  <a:chOff x="4290840" y="3171960"/>
                  <a:chExt cx="1393920" cy="931680"/>
                </a:xfrm>
              </p:grpSpPr>
              <p:sp>
                <p:nvSpPr>
                  <p:cNvPr id="528" name="Freeform 64"/>
                  <p:cNvSpPr/>
                  <p:nvPr/>
                </p:nvSpPr>
                <p:spPr>
                  <a:xfrm>
                    <a:off x="4290840" y="3171960"/>
                    <a:ext cx="139392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9" name="Freeform 65"/>
                  <p:cNvSpPr/>
                  <p:nvPr/>
                </p:nvSpPr>
                <p:spPr>
                  <a:xfrm>
                    <a:off x="4290840" y="3171960"/>
                    <a:ext cx="139392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30" name="Rectangle 66"/>
                <p:cNvSpPr/>
                <p:nvPr/>
              </p:nvSpPr>
              <p:spPr>
                <a:xfrm>
                  <a:off x="4366800" y="3281400"/>
                  <a:ext cx="124020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"Point"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1" name="Group 67"/>
              <p:cNvGrpSpPr/>
              <p:nvPr/>
            </p:nvGrpSpPr>
            <p:grpSpPr>
              <a:xfrm>
                <a:off x="5684760" y="3171960"/>
                <a:ext cx="1393920" cy="931680"/>
                <a:chOff x="5684760" y="3171960"/>
                <a:chExt cx="1393920" cy="931680"/>
              </a:xfrm>
            </p:grpSpPr>
            <p:grpSp>
              <p:nvGrpSpPr>
                <p:cNvPr id="532" name="Group 68"/>
                <p:cNvGrpSpPr/>
                <p:nvPr/>
              </p:nvGrpSpPr>
              <p:grpSpPr>
                <a:xfrm>
                  <a:off x="5684760" y="3171960"/>
                  <a:ext cx="1393920" cy="931680"/>
                  <a:chOff x="5684760" y="3171960"/>
                  <a:chExt cx="1393920" cy="931680"/>
                </a:xfrm>
              </p:grpSpPr>
              <p:sp>
                <p:nvSpPr>
                  <p:cNvPr id="533" name="Freeform 69"/>
                  <p:cNvSpPr/>
                  <p:nvPr/>
                </p:nvSpPr>
                <p:spPr>
                  <a:xfrm>
                    <a:off x="5684760" y="3171960"/>
                    <a:ext cx="139392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4" name="Freeform 70"/>
                  <p:cNvSpPr/>
                  <p:nvPr/>
                </p:nvSpPr>
                <p:spPr>
                  <a:xfrm>
                    <a:off x="5684760" y="3171960"/>
                    <a:ext cx="139392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35" name="Rectangle 71"/>
                <p:cNvSpPr/>
                <p:nvPr/>
              </p:nvSpPr>
              <p:spPr>
                <a:xfrm>
                  <a:off x="5760720" y="3281400"/>
                  <a:ext cx="124020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[x,y]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6" name="Group 72"/>
              <p:cNvGrpSpPr/>
              <p:nvPr/>
            </p:nvGrpSpPr>
            <p:grpSpPr>
              <a:xfrm>
                <a:off x="1501920" y="4103640"/>
                <a:ext cx="1393560" cy="930240"/>
                <a:chOff x="1501920" y="4103640"/>
                <a:chExt cx="1393560" cy="930240"/>
              </a:xfrm>
            </p:grpSpPr>
            <p:grpSp>
              <p:nvGrpSpPr>
                <p:cNvPr id="537" name="Group 73"/>
                <p:cNvGrpSpPr/>
                <p:nvPr/>
              </p:nvGrpSpPr>
              <p:grpSpPr>
                <a:xfrm>
                  <a:off x="1501920" y="4103640"/>
                  <a:ext cx="1393560" cy="930240"/>
                  <a:chOff x="1501920" y="4103640"/>
                  <a:chExt cx="1393560" cy="930240"/>
                </a:xfrm>
              </p:grpSpPr>
              <p:sp>
                <p:nvSpPr>
                  <p:cNvPr id="538" name="Freeform 74"/>
                  <p:cNvSpPr/>
                  <p:nvPr/>
                </p:nvSpPr>
                <p:spPr>
                  <a:xfrm>
                    <a:off x="1501920" y="4103640"/>
                    <a:ext cx="139356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9" name="Freeform 75"/>
                  <p:cNvSpPr/>
                  <p:nvPr/>
                </p:nvSpPr>
                <p:spPr>
                  <a:xfrm>
                    <a:off x="1501920" y="4103640"/>
                    <a:ext cx="139356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40" name="Rectangle 76"/>
                <p:cNvSpPr/>
                <p:nvPr/>
              </p:nvSpPr>
              <p:spPr>
                <a:xfrm>
                  <a:off x="1577880" y="4213080"/>
                  <a:ext cx="123984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400" spc="-1" strike="noStrike">
                      <a:solidFill>
                        <a:srgbClr val="000000"/>
                      </a:solidFill>
                      <a:latin typeface="Times New Roman"/>
                      <a:ea typeface="ＭＳ Ｐゴシック"/>
                    </a:rPr>
                    <a:t>π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41" name="Group 77"/>
              <p:cNvGrpSpPr/>
              <p:nvPr/>
            </p:nvGrpSpPr>
            <p:grpSpPr>
              <a:xfrm>
                <a:off x="2895480" y="4103640"/>
                <a:ext cx="1395360" cy="930240"/>
                <a:chOff x="2895480" y="4103640"/>
                <a:chExt cx="1395360" cy="930240"/>
              </a:xfrm>
            </p:grpSpPr>
            <p:grpSp>
              <p:nvGrpSpPr>
                <p:cNvPr id="542" name="Group 78"/>
                <p:cNvGrpSpPr/>
                <p:nvPr/>
              </p:nvGrpSpPr>
              <p:grpSpPr>
                <a:xfrm>
                  <a:off x="2895480" y="4103640"/>
                  <a:ext cx="1395360" cy="930240"/>
                  <a:chOff x="2895480" y="4103640"/>
                  <a:chExt cx="1395360" cy="930240"/>
                </a:xfrm>
              </p:grpSpPr>
              <p:sp>
                <p:nvSpPr>
                  <p:cNvPr id="543" name="Freeform 79"/>
                  <p:cNvSpPr/>
                  <p:nvPr/>
                </p:nvSpPr>
                <p:spPr>
                  <a:xfrm>
                    <a:off x="2895480" y="4103640"/>
                    <a:ext cx="139536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4" name="Freeform 80"/>
                  <p:cNvSpPr/>
                  <p:nvPr/>
                </p:nvSpPr>
                <p:spPr>
                  <a:xfrm>
                    <a:off x="2895480" y="4103640"/>
                    <a:ext cx="139536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45" name="Rectangle 81"/>
                <p:cNvSpPr/>
                <p:nvPr/>
              </p:nvSpPr>
              <p:spPr>
                <a:xfrm>
                  <a:off x="2971440" y="4213080"/>
                  <a:ext cx="124164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46" name="Group 82"/>
              <p:cNvGrpSpPr/>
              <p:nvPr/>
            </p:nvGrpSpPr>
            <p:grpSpPr>
              <a:xfrm>
                <a:off x="4290840" y="4103640"/>
                <a:ext cx="1393920" cy="930240"/>
                <a:chOff x="4290840" y="4103640"/>
                <a:chExt cx="1393920" cy="930240"/>
              </a:xfrm>
            </p:grpSpPr>
            <p:grpSp>
              <p:nvGrpSpPr>
                <p:cNvPr id="547" name="Group 83"/>
                <p:cNvGrpSpPr/>
                <p:nvPr/>
              </p:nvGrpSpPr>
              <p:grpSpPr>
                <a:xfrm>
                  <a:off x="4290840" y="4103640"/>
                  <a:ext cx="1393920" cy="930240"/>
                  <a:chOff x="4290840" y="4103640"/>
                  <a:chExt cx="1393920" cy="930240"/>
                </a:xfrm>
              </p:grpSpPr>
              <p:sp>
                <p:nvSpPr>
                  <p:cNvPr id="548" name="Freeform 84"/>
                  <p:cNvSpPr/>
                  <p:nvPr/>
                </p:nvSpPr>
                <p:spPr>
                  <a:xfrm>
                    <a:off x="4290840" y="4103640"/>
                    <a:ext cx="13939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9" name="Freeform 85"/>
                  <p:cNvSpPr/>
                  <p:nvPr/>
                </p:nvSpPr>
                <p:spPr>
                  <a:xfrm>
                    <a:off x="4290840" y="4103640"/>
                    <a:ext cx="13939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50" name="Rectangle 86"/>
                <p:cNvSpPr/>
                <p:nvPr/>
              </p:nvSpPr>
              <p:spPr>
                <a:xfrm>
                  <a:off x="4366800" y="4213080"/>
                  <a:ext cx="124020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"Circle"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51" name="Group 87"/>
              <p:cNvGrpSpPr/>
              <p:nvPr/>
            </p:nvGrpSpPr>
            <p:grpSpPr>
              <a:xfrm>
                <a:off x="5684760" y="4103640"/>
                <a:ext cx="1393920" cy="930240"/>
                <a:chOff x="5684760" y="4103640"/>
                <a:chExt cx="1393920" cy="930240"/>
              </a:xfrm>
            </p:grpSpPr>
            <p:sp>
              <p:nvSpPr>
                <p:cNvPr id="552" name="Freeform 88"/>
                <p:cNvSpPr/>
                <p:nvPr/>
              </p:nvSpPr>
              <p:spPr>
                <a:xfrm>
                  <a:off x="5684760" y="4103640"/>
                  <a:ext cx="1393920" cy="930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3" name="Freeform 89"/>
                <p:cNvSpPr/>
                <p:nvPr/>
              </p:nvSpPr>
              <p:spPr>
                <a:xfrm>
                  <a:off x="5684760" y="4103640"/>
                  <a:ext cx="1393920" cy="930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54" name="Rectangle 90"/>
              <p:cNvSpPr/>
              <p:nvPr/>
            </p:nvSpPr>
            <p:spPr>
              <a:xfrm>
                <a:off x="5761080" y="4349880"/>
                <a:ext cx="123984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Lucida Console"/>
                    <a:ea typeface="ＭＳ Ｐゴシック"/>
                  </a:rPr>
                  <a:t>center=[x,y]; radius=r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5" name="Group 91"/>
              <p:cNvGrpSpPr/>
              <p:nvPr/>
            </p:nvGrpSpPr>
            <p:grpSpPr>
              <a:xfrm>
                <a:off x="1501920" y="5033880"/>
                <a:ext cx="1393560" cy="932040"/>
                <a:chOff x="1501920" y="5033880"/>
                <a:chExt cx="1393560" cy="932040"/>
              </a:xfrm>
            </p:grpSpPr>
            <p:grpSp>
              <p:nvGrpSpPr>
                <p:cNvPr id="556" name="Group 92"/>
                <p:cNvGrpSpPr/>
                <p:nvPr/>
              </p:nvGrpSpPr>
              <p:grpSpPr>
                <a:xfrm>
                  <a:off x="1501920" y="5033880"/>
                  <a:ext cx="1393560" cy="932040"/>
                  <a:chOff x="1501920" y="5033880"/>
                  <a:chExt cx="1393560" cy="932040"/>
                </a:xfrm>
              </p:grpSpPr>
              <p:sp>
                <p:nvSpPr>
                  <p:cNvPr id="557" name="Freeform 93"/>
                  <p:cNvSpPr/>
                  <p:nvPr/>
                </p:nvSpPr>
                <p:spPr>
                  <a:xfrm>
                    <a:off x="1501920" y="5033880"/>
                    <a:ext cx="139356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8" name="Freeform 94"/>
                  <p:cNvSpPr/>
                  <p:nvPr/>
                </p:nvSpPr>
                <p:spPr>
                  <a:xfrm>
                    <a:off x="1501920" y="5033880"/>
                    <a:ext cx="139356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59" name="Rectangle 95"/>
                <p:cNvSpPr/>
                <p:nvPr/>
              </p:nvSpPr>
              <p:spPr>
                <a:xfrm>
                  <a:off x="1577880" y="5143320"/>
                  <a:ext cx="1239840" cy="76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2</a:t>
                  </a:r>
                  <a:r>
                    <a:rPr b="0" lang="el-GR" sz="1400" spc="-1" strike="noStrike">
                      <a:solidFill>
                        <a:srgbClr val="000000"/>
                      </a:solidFill>
                      <a:latin typeface="Times New Roman"/>
                      <a:ea typeface="ＭＳ Ｐゴシック"/>
                    </a:rPr>
                    <a:t>π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2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+2</a:t>
                  </a:r>
                  <a:r>
                    <a:rPr b="0" lang="el-GR" sz="1400" spc="-1" strike="noStrike">
                      <a:solidFill>
                        <a:srgbClr val="000000"/>
                      </a:solidFill>
                      <a:latin typeface="Times New Roman"/>
                      <a:ea typeface="ＭＳ Ｐゴシック"/>
                    </a:rPr>
                    <a:t>π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r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0" name="Group 96"/>
              <p:cNvGrpSpPr/>
              <p:nvPr/>
            </p:nvGrpSpPr>
            <p:grpSpPr>
              <a:xfrm>
                <a:off x="2895480" y="5033880"/>
                <a:ext cx="1395360" cy="932040"/>
                <a:chOff x="2895480" y="5033880"/>
                <a:chExt cx="1395360" cy="932040"/>
              </a:xfrm>
            </p:grpSpPr>
            <p:grpSp>
              <p:nvGrpSpPr>
                <p:cNvPr id="561" name="Group 97"/>
                <p:cNvGrpSpPr/>
                <p:nvPr/>
              </p:nvGrpSpPr>
              <p:grpSpPr>
                <a:xfrm>
                  <a:off x="2895480" y="5033880"/>
                  <a:ext cx="1395360" cy="932040"/>
                  <a:chOff x="2895480" y="5033880"/>
                  <a:chExt cx="1395360" cy="932040"/>
                </a:xfrm>
              </p:grpSpPr>
              <p:sp>
                <p:nvSpPr>
                  <p:cNvPr id="562" name="Freeform 98"/>
                  <p:cNvSpPr/>
                  <p:nvPr/>
                </p:nvSpPr>
                <p:spPr>
                  <a:xfrm>
                    <a:off x="2895480" y="5033880"/>
                    <a:ext cx="139536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3" name="Freeform 99"/>
                  <p:cNvSpPr/>
                  <p:nvPr/>
                </p:nvSpPr>
                <p:spPr>
                  <a:xfrm>
                    <a:off x="2895480" y="5033880"/>
                    <a:ext cx="139536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64" name="Rectangle 100"/>
                <p:cNvSpPr/>
                <p:nvPr/>
              </p:nvSpPr>
              <p:spPr>
                <a:xfrm>
                  <a:off x="2971440" y="5143320"/>
                  <a:ext cx="1241640" cy="76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400" spc="-1" strike="noStrike">
                      <a:solidFill>
                        <a:srgbClr val="000000"/>
                      </a:solidFill>
                      <a:latin typeface="Times New Roman"/>
                      <a:ea typeface="ＭＳ Ｐゴシック"/>
                    </a:rPr>
                    <a:t>π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2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5" name="Group 101"/>
              <p:cNvGrpSpPr/>
              <p:nvPr/>
            </p:nvGrpSpPr>
            <p:grpSpPr>
              <a:xfrm>
                <a:off x="4290840" y="5033880"/>
                <a:ext cx="1393920" cy="932040"/>
                <a:chOff x="4290840" y="5033880"/>
                <a:chExt cx="1393920" cy="932040"/>
              </a:xfrm>
            </p:grpSpPr>
            <p:grpSp>
              <p:nvGrpSpPr>
                <p:cNvPr id="566" name="Group 102"/>
                <p:cNvGrpSpPr/>
                <p:nvPr/>
              </p:nvGrpSpPr>
              <p:grpSpPr>
                <a:xfrm>
                  <a:off x="4290840" y="5033880"/>
                  <a:ext cx="1393920" cy="932040"/>
                  <a:chOff x="4290840" y="5033880"/>
                  <a:chExt cx="1393920" cy="932040"/>
                </a:xfrm>
              </p:grpSpPr>
              <p:sp>
                <p:nvSpPr>
                  <p:cNvPr id="567" name="Freeform 103"/>
                  <p:cNvSpPr/>
                  <p:nvPr/>
                </p:nvSpPr>
                <p:spPr>
                  <a:xfrm>
                    <a:off x="4290840" y="5033880"/>
                    <a:ext cx="139392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8" name="Freeform 104"/>
                  <p:cNvSpPr/>
                  <p:nvPr/>
                </p:nvSpPr>
                <p:spPr>
                  <a:xfrm>
                    <a:off x="4290840" y="5033880"/>
                    <a:ext cx="139392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69" name="Rectangle 105"/>
                <p:cNvSpPr/>
                <p:nvPr/>
              </p:nvSpPr>
              <p:spPr>
                <a:xfrm>
                  <a:off x="4366800" y="5143320"/>
                  <a:ext cx="1240200" cy="76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"Cylinder"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70" name="Group 106"/>
              <p:cNvGrpSpPr/>
              <p:nvPr/>
            </p:nvGrpSpPr>
            <p:grpSpPr>
              <a:xfrm>
                <a:off x="5684760" y="5033880"/>
                <a:ext cx="1393920" cy="932040"/>
                <a:chOff x="5684760" y="5033880"/>
                <a:chExt cx="1393920" cy="932040"/>
              </a:xfrm>
            </p:grpSpPr>
            <p:grpSp>
              <p:nvGrpSpPr>
                <p:cNvPr id="571" name="Group 107"/>
                <p:cNvGrpSpPr/>
                <p:nvPr/>
              </p:nvGrpSpPr>
              <p:grpSpPr>
                <a:xfrm>
                  <a:off x="5684760" y="5033880"/>
                  <a:ext cx="1393920" cy="932040"/>
                  <a:chOff x="5684760" y="5033880"/>
                  <a:chExt cx="1393920" cy="932040"/>
                </a:xfrm>
              </p:grpSpPr>
              <p:sp>
                <p:nvSpPr>
                  <p:cNvPr id="572" name="Freeform 108"/>
                  <p:cNvSpPr/>
                  <p:nvPr/>
                </p:nvSpPr>
                <p:spPr>
                  <a:xfrm>
                    <a:off x="5684760" y="5033880"/>
                    <a:ext cx="139392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3" name="Freeform 109"/>
                  <p:cNvSpPr/>
                  <p:nvPr/>
                </p:nvSpPr>
                <p:spPr>
                  <a:xfrm>
                    <a:off x="5684760" y="5033880"/>
                    <a:ext cx="139392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74" name="Rectangle 110"/>
                <p:cNvSpPr/>
                <p:nvPr/>
              </p:nvSpPr>
              <p:spPr>
                <a:xfrm>
                  <a:off x="5760720" y="5143320"/>
                  <a:ext cx="1240200" cy="76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just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200" spc="-1" strike="noStrike">
                      <a:solidFill>
                        <a:srgbClr val="000000"/>
                      </a:solidFill>
                      <a:latin typeface="Lucida Console"/>
                      <a:ea typeface="ＭＳ Ｐゴシック"/>
                    </a:rPr>
                    <a:t>center=[x,y]; radius=r; height=h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75" name="Rectangle 111"/>
              <p:cNvSpPr/>
              <p:nvPr/>
            </p:nvSpPr>
            <p:spPr>
              <a:xfrm>
                <a:off x="1579680" y="1911240"/>
                <a:ext cx="1239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400" spc="-1" strike="noStrike">
                    <a:solidFill>
                      <a:srgbClr val="000000"/>
                    </a:solidFill>
                    <a:latin typeface="Lucida Console"/>
                    <a:ea typeface="ＭＳ Ｐゴシック"/>
                  </a:rPr>
                  <a:t>getArea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6" name="Rectangle 112"/>
              <p:cNvSpPr/>
              <p:nvPr/>
            </p:nvSpPr>
            <p:spPr>
              <a:xfrm>
                <a:off x="5761080" y="1911240"/>
                <a:ext cx="1239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Console"/>
                    <a:ea typeface="ＭＳ Ｐゴシック"/>
                  </a:rPr>
                  <a:t>toString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7" name="Rectangle 113"/>
              <p:cNvSpPr/>
              <p:nvPr/>
            </p:nvSpPr>
            <p:spPr>
              <a:xfrm>
                <a:off x="4367160" y="1911240"/>
                <a:ext cx="1239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400" spc="-1" strike="noStrike">
                    <a:solidFill>
                      <a:srgbClr val="000000"/>
                    </a:solidFill>
                    <a:latin typeface="Lucida Console"/>
                    <a:ea typeface="ＭＳ Ｐゴシック"/>
                  </a:rPr>
                  <a:t>getNam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8" name="Rectangle 114"/>
              <p:cNvSpPr/>
              <p:nvPr/>
            </p:nvSpPr>
            <p:spPr>
              <a:xfrm>
                <a:off x="2971800" y="1911240"/>
                <a:ext cx="1241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400" spc="-1" strike="noStrike">
                    <a:solidFill>
                      <a:srgbClr val="000000"/>
                    </a:solidFill>
                    <a:latin typeface="Lucida Console"/>
                    <a:ea typeface="ＭＳ Ｐゴシック"/>
                  </a:rPr>
                  <a:t>getVolum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9" name="Rectangle 115"/>
              <p:cNvSpPr/>
              <p:nvPr/>
            </p:nvSpPr>
            <p:spPr>
              <a:xfrm>
                <a:off x="649440" y="2595600"/>
                <a:ext cx="7747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400" spc="-1" strike="noStrike">
                    <a:solidFill>
                      <a:srgbClr val="000000"/>
                    </a:solidFill>
                    <a:latin typeface="Lucida Console"/>
                    <a:ea typeface="ＭＳ Ｐゴシック"/>
                  </a:rPr>
                  <a:t>Shap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0" name="Rectangle 116"/>
              <p:cNvSpPr/>
              <p:nvPr/>
            </p:nvSpPr>
            <p:spPr>
              <a:xfrm>
                <a:off x="649440" y="3527280"/>
                <a:ext cx="77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400" spc="-1" strike="noStrike">
                    <a:solidFill>
                      <a:srgbClr val="000000"/>
                    </a:solidFill>
                    <a:latin typeface="Lucida Console"/>
                    <a:ea typeface="ＭＳ Ｐゴシック"/>
                  </a:rPr>
                  <a:t>Point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1" name="Rectangle 117"/>
              <p:cNvSpPr/>
              <p:nvPr/>
            </p:nvSpPr>
            <p:spPr>
              <a:xfrm>
                <a:off x="649440" y="4459320"/>
                <a:ext cx="774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400" spc="-1" strike="noStrike">
                    <a:solidFill>
                      <a:srgbClr val="000000"/>
                    </a:solidFill>
                    <a:latin typeface="Lucida Console"/>
                    <a:ea typeface="ＭＳ Ｐゴシック"/>
                  </a:rPr>
                  <a:t>Circl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2" name="Rectangle 118"/>
              <p:cNvSpPr/>
              <p:nvPr/>
            </p:nvSpPr>
            <p:spPr>
              <a:xfrm>
                <a:off x="463680" y="5391000"/>
                <a:ext cx="96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400" spc="-1" strike="noStrike">
                    <a:solidFill>
                      <a:srgbClr val="000000"/>
                    </a:solidFill>
                    <a:latin typeface="Lucida Console"/>
                    <a:ea typeface="ＭＳ Ｐゴシック"/>
                  </a:rPr>
                  <a:t>Cylinder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reating and Using Interfac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116000"/>
            <a:ext cx="7772400" cy="54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the same "is-a" relationships apply when an interface inheritance is u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s of any class that extend the interface are also objects of the interface ty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Circle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ds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us it is-a </a:t>
            </a:r>
            <a:r>
              <a:rPr b="1" lang="en-US" sz="2800" spc="-1" strike="noStrike">
                <a:solidFill>
                  <a:srgbClr val="00b050"/>
                </a:solidFill>
                <a:latin typeface="Courier New"/>
              </a:rPr>
              <a:t>Sha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interfaces are possi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-separated list used in decla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9:08:13Z</dcterms:created>
  <dc:creator>Steve Armstrong</dc:creator>
  <dc:description/>
  <dc:language>en-US</dc:language>
  <cp:lastModifiedBy>GIUSEPPE ATTARDI</cp:lastModifiedBy>
  <dcterms:modified xsi:type="dcterms:W3CDTF">2017-03-10T12:36:35Z</dcterms:modified>
  <cp:revision>100</cp:revision>
  <dc:subject/>
  <dc:title>Object-Oriented Programming: Polymorph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